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wmf" ContentType="image/x-wmf"/>
  <Override PartName="/ppt/media/image6.png" ContentType="image/png"/>
  <Override PartName="/ppt/media/image10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</p:sldIdLst>
  <p:sldSz cx="9144000" cy="6858000"/>
  <p:notesSz cx="675798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57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382752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5792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899640" y="4710240"/>
            <a:ext cx="49561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5"/>
          </p:nvPr>
        </p:nvSpPr>
        <p:spPr>
          <a:xfrm>
            <a:off x="0" y="942336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6"/>
          </p:nvPr>
        </p:nvSpPr>
        <p:spPr>
          <a:xfrm>
            <a:off x="3827520" y="942336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3C7-704B-466C-8611-74197EC4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906480" y="76212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15840" y="4725720"/>
            <a:ext cx="4959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KR: wegen Subsystemen (Ontologien, KID, Agen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W Erwartungshaltung -&gt; Ontology 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ende fuer eigenes Fra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ehende System unbrauch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ene Erweiterungen fuer Protokolle, Transaktiuonen (Heit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906480" y="76212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5840" y="4725720"/>
            <a:ext cx="4959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DO ist kein Agentenprojekt, sondern ein Agentenanwendungsprojek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RI: well-founded semantics, for general logic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906480" y="76212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5840" y="4725720"/>
            <a:ext cx="4959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 message types etc. nur erster Ausgangspunk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9C6-3238-4F33-8A93-394B5B6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0436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0F3-D733-431C-B7E9-BE627F6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1EA-FDA5-4650-849A-89C10181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616-E875-45ED-8990-6230364A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343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D53-289A-4DD5-B6AF-1C956B4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10436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158868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104360"/>
            <a:ext cx="25761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8D8-4C6A-4176-930E-5940C098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AA2-0683-4B89-B72B-91336F11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2DF-36D6-491F-9008-2FC77A7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343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984-4120-474F-B811-6BFC6736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056-9EA7-4E73-93D9-04F60E1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0436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3B7-0283-473F-933F-0538F856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588680"/>
            <a:ext cx="39042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04360"/>
            <a:ext cx="80010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4EB-8E9E-421A-9660-1456926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365640" cy="6858000"/>
            <a:chOff x="0" y="0"/>
            <a:chExt cx="336564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304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71800" y="0"/>
              <a:ext cx="393840" cy="304920"/>
            </a:xfrm>
            <a:prstGeom prst="flowChartDelay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5-Apr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99840" y="6526800"/>
            <a:ext cx="5334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987A-DEE0-4EE2-9E1A-FFD1A5F328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228600" y="1295280"/>
            <a:ext cx="7391520" cy="212760"/>
            <a:chOff x="228600" y="1295280"/>
            <a:chExt cx="7391520" cy="212760"/>
          </a:xfrm>
        </p:grpSpPr>
        <p:sp>
          <p:nvSpPr>
            <p:cNvPr id="11" name=""/>
            <p:cNvSpPr/>
            <p:nvPr/>
          </p:nvSpPr>
          <p:spPr>
            <a:xfrm>
              <a:off x="609480" y="1295280"/>
              <a:ext cx="7010640" cy="2116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28600" y="1295280"/>
              <a:ext cx="393840" cy="212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332280" y="4344120"/>
            <a:ext cx="3402000" cy="8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  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4210200"/>
            <a:ext cx="5954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4991040"/>
            <a:ext cx="476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27560" y="3753000"/>
            <a:ext cx="6872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71720" y="5143680"/>
            <a:ext cx="5288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A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5200" y="2647800"/>
            <a:ext cx="476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41560" y="4371840"/>
            <a:ext cx="7160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9960" y="5657760"/>
            <a:ext cx="476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S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5520" y="5857920"/>
            <a:ext cx="5288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19240" y="428760"/>
            <a:ext cx="47628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56000" y="295200"/>
            <a:ext cx="6872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Pa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200" y="228600"/>
            <a:ext cx="863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6360" y="3514680"/>
            <a:ext cx="5950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56120" y="3057480"/>
            <a:ext cx="8539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http://xml.apache.org/cocoon/index.html" TargetMode="External"/><Relationship Id="rId2" Type="http://schemas.openxmlformats.org/officeDocument/2006/relationships/hyperlink" Target="http://xml.apache.org/cocoon/index.html" TargetMode="External"/><Relationship Id="rId3" Type="http://schemas.openxmlformats.org/officeDocument/2006/relationships/hyperlink" Target="http://xml.apache.org/cocoon/index.html" TargetMode="External"/><Relationship Id="rId4" Type="http://schemas.openxmlformats.org/officeDocument/2006/relationships/hyperlink" Target="http://www.w3.org/TR/REC-CSS2/" TargetMode="External"/><Relationship Id="rId5" Type="http://schemas.openxmlformats.org/officeDocument/2006/relationships/hyperlink" Target="http://www.w3.org/1999/09/ql/docs/xquery.html" TargetMode="External"/><Relationship Id="rId6" Type="http://schemas.openxmlformats.org/officeDocument/2006/relationships/hyperlink" Target="http://www.w3.org/1999/09/ql/docs/xquery.html" TargetMode="External"/><Relationship Id="rId7" Type="http://schemas.openxmlformats.org/officeDocument/2006/relationships/hyperlink" Target="http://www.w3.org/1999/09/ql/docs/xquery.html" TargetMode="External"/><Relationship Id="rId8" Type="http://schemas.openxmlformats.org/officeDocument/2006/relationships/hyperlink" Target="http://www.w3.org/1999/09/ql/docs/xquery.html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relfun.org/rfml/" TargetMode="External"/><Relationship Id="rId2" Type="http://schemas.openxmlformats.org/officeDocument/2006/relationships/hyperlink" Target="http://www.relfun.org/rfml/" TargetMode="External"/><Relationship Id="rId3" Type="http://schemas.openxmlformats.org/officeDocument/2006/relationships/hyperlink" Target="http://www.relfun.org/rfml/" TargetMode="External"/><Relationship Id="rId4" Type="http://schemas.openxmlformats.org/officeDocument/2006/relationships/hyperlink" Target="http://www.relfun.org/rfml/" TargetMode="External"/><Relationship Id="rId5" Type="http://schemas.openxmlformats.org/officeDocument/2006/relationships/hyperlink" Target="http://www.relfun.org/rfml/" TargetMode="External"/><Relationship Id="rId6" Type="http://schemas.openxmlformats.org/officeDocument/2006/relationships/hyperlink" Target="http://www.relfun.org/rfml/" TargetMode="External"/><Relationship Id="rId7" Type="http://schemas.openxmlformats.org/officeDocument/2006/relationships/hyperlink" Target="http://www.relfun.org/rfml/" TargetMode="External"/><Relationship Id="rId8" Type="http://schemas.openxmlformats.org/officeDocument/2006/relationships/hyperlink" Target="http://www.relfun.org/rfml/" TargetMode="External"/><Relationship Id="rId9" Type="http://schemas.openxmlformats.org/officeDocument/2006/relationships/hyperlink" Target="http://www.relfun.org/rfml/" TargetMode="External"/><Relationship Id="rId10" Type="http://schemas.openxmlformats.org/officeDocument/2006/relationships/hyperlink" Target="http://www.relfun.org/rfml/" TargetMode="External"/><Relationship Id="rId1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utorial on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Knowledge Markup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Harold Boley</a:t>
            </a:r>
            <a:br>
              <a:rPr sz="2600"/>
            </a:b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Stefan Decker</a:t>
            </a:r>
            <a:br>
              <a:rPr sz="2600"/>
            </a:b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Michael Sintek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657760"/>
            <a:ext cx="404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CAI 2000 Berlin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2 August 2000     (last updated: 25 April 20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Some Stylesheets Will Contain Term-(Tree-)Rewriting Ru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3984120" y="1779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207880" y="217188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3080" y="2171880"/>
            <a:ext cx="0" cy="527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65600" y="2151000"/>
            <a:ext cx="2113200" cy="487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5320" y="3271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53240" y="3220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21320" y="260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26320" y="26035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36160" y="2603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05400" y="293364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9400" y="295416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92920" y="29322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06440" y="41259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20480" y="4467240"/>
            <a:ext cx="2133720" cy="477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501880" y="5229360"/>
            <a:ext cx="406440" cy="344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7920" y="5240160"/>
            <a:ext cx="690480" cy="325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33920" y="48988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3400" y="54687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83680" y="5468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24560" y="58086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2000" y="52498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59520" y="5813280"/>
            <a:ext cx="180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63520" y="48988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06920" y="4456080"/>
            <a:ext cx="1300320" cy="468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86280" y="3974760"/>
            <a:ext cx="2730240" cy="126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85840" y="558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76600" y="608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6066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2C8-ADB4-4804-A4DE-7953C9FB69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DBB78-C8FD-4EE8-AE32-46F049EE3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QL and XPath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SLT uses XPath to select parts of the input XML documents, e.g.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&lt;xsl:template match="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"&gt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document roo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&lt;xsl:value-of select="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"/&gt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lement „name“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yntax is not XML-based, but intended to be used in URLs (XPointer) and XSLT as abov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QL is a variant of XPath especially designed for querying XML documen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Path/XQL expressions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select par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f XML documents (no transformations!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410-92F1-4006-9E52-3FFA3705907A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8AD04-536D-46F5-86E5-F812459D7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QL Expressions 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QL expressions (relative to a context node)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lect element nodes with tag name „address“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/name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lect „name“ element nodes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directl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below „address“ element nod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/name=´John Doe´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s before, plus the content of the name element must be ´John Doe´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ook//name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lect „name“ element nodes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anywher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below „book“ element nod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7BF-E184-4831-B1E0-06099C411064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79D84-2EAD-4B5A-A6CC-AED6046889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QL Expressions 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8868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bsolute XQL expression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ocument root (the node that contains the document element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addresses/address/na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/name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„name“ element nodes anywhere in the docu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pressions with attributes (prefixed with @)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/@type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ttribute nodes with name „type“ below „address“ element nod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/@type=´email´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s above, plus the value of the „type“ attribute is ´email´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DCF-CA48-4AD8-BD6C-E8B02B7B279D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D3868-934D-4BEF-9B66-C7D1CD6B52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QL Expressions 3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 rot="5400000">
            <a:off x="-1038240" y="3600360"/>
            <a:ext cx="2914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800100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lter expression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[name] 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lect „address“ element nodes with a direct „name“ sub-element nod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[name=´John Doe´]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s above, plus the content of the „name“ element is ´John Doe´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dress[@type=´email´]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lect „address“ element nodes that have a „type“ attribute whose value is ´email´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DCD-4B24-418D-BB4F-C7657FA640DF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14E9C-F0C1-444B-94D4-4BBAA10B83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Q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orrows features of query languages developed by the database research community for semistructured dat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milar to SQ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simplified) base construct is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R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attern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URI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...</a:t>
            </a:r>
            <a:br>
              <a:rPr sz="2600"/>
            </a:b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attern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re the patterns are XML fragments with variables (prefixed with $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ML-QL introduces an abbreviated XML syntax for simplicity: &lt;tag&gt;...&lt;/&gt; instead of &lt;tag&gt;...&lt;/tag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6D1-208E-42EE-98D1-8D6B0F6B94B4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676BD-68BC-4AF7-BDBE-E9ADBD8331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QL Example 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turn short addresses (town-city renaming, without street):</a:t>
            </a: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&lt;address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&lt;town&gt;$t&lt;/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&lt;/&gt; 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ww.test.org/addresses.x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&lt;shortaddress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&lt;name&gt;$n&lt;/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&lt;city&gt;$t&lt;/&gt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&lt;/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13240" y="2332080"/>
            <a:ext cx="3533760" cy="131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address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aver M. Linde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nam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street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kingerufer 7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street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town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555 Berli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tow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address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97400" y="4545000"/>
            <a:ext cx="3544920" cy="106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shortaddress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aver M. Linde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name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city&gt;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0555 Berli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city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&lt;/shortaddress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30480" y="2454120"/>
            <a:ext cx="2017800" cy="579600"/>
          </a:xfrm>
          <a:prstGeom prst="wedgeRoundRectCallout">
            <a:avLst>
              <a:gd name="adj1" fmla="val 75569"/>
              <a:gd name="adj2" fmla="val 43699"/>
              <a:gd name="adj3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street&gt;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re also match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37200" y="3787920"/>
            <a:ext cx="223920" cy="660240"/>
          </a:xfrm>
          <a:prstGeom prst="downArrow">
            <a:avLst>
              <a:gd name="adj1" fmla="val 50000"/>
              <a:gd name="adj2" fmla="val 73714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D60-6C67-4870-8C61-D8D03AEC5F32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7DBA8-5F94-4800-8ED4-D4687CB593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457280" y="2543040"/>
            <a:ext cx="5743800" cy="80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57280" y="3390840"/>
            <a:ext cx="5743800" cy="1076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47920" y="4714920"/>
            <a:ext cx="5743440" cy="107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-QL allows joining by value:</a:t>
            </a:r>
            <a:br>
              <a:rPr sz="24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RE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&lt;address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&lt;nam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/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&lt;/&gt; ELEMENT_AS $a IN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ww.test.org/addresses.xm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"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&lt;book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  &lt;author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&lt;/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  &lt;title&gt;$t&lt;/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&lt;/&gt; IN "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ww.test.org/books.xm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TRUCT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&lt;book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&lt;title&gt;$t&lt;/&gt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$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&lt;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QL Example 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 rot="5400000">
            <a:off x="-1324080" y="3676680"/>
            <a:ext cx="3486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-Q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7" name=""/>
          <p:cNvSpPr/>
          <p:nvPr/>
        </p:nvSpPr>
        <p:spPr>
          <a:xfrm>
            <a:off x="960480" y="4057560"/>
            <a:ext cx="569880" cy="1104840"/>
          </a:xfrm>
          <a:custGeom>
            <a:avLst/>
            <a:gdLst/>
            <a:ahLst/>
            <a:rect l="l" t="t" r="r" b="b"/>
            <a:pathLst>
              <a:path w="359" h="696">
                <a:moveTo>
                  <a:pt x="355" y="0"/>
                </a:moveTo>
                <a:cubicBezTo>
                  <a:pt x="296" y="58"/>
                  <a:pt x="0" y="232"/>
                  <a:pt x="1" y="348"/>
                </a:cubicBezTo>
                <a:cubicBezTo>
                  <a:pt x="2" y="464"/>
                  <a:pt x="285" y="624"/>
                  <a:pt x="359" y="696"/>
                </a:cubicBezTo>
              </a:path>
            </a:pathLst>
          </a:custGeom>
          <a:noFill/>
          <a:ln w="1584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952640" y="3362400"/>
            <a:ext cx="1812960" cy="2085840"/>
          </a:xfrm>
          <a:custGeom>
            <a:avLst/>
            <a:gdLst/>
            <a:ahLst/>
            <a:rect l="l" t="t" r="r" b="b"/>
            <a:pathLst>
              <a:path w="1142" h="1314">
                <a:moveTo>
                  <a:pt x="1014" y="0"/>
                </a:moveTo>
                <a:cubicBezTo>
                  <a:pt x="1035" y="152"/>
                  <a:pt x="1138" y="710"/>
                  <a:pt x="1140" y="906"/>
                </a:cubicBezTo>
                <a:cubicBezTo>
                  <a:pt x="1142" y="1102"/>
                  <a:pt x="1089" y="1112"/>
                  <a:pt x="1026" y="1176"/>
                </a:cubicBezTo>
                <a:cubicBezTo>
                  <a:pt x="963" y="1240"/>
                  <a:pt x="933" y="1267"/>
                  <a:pt x="762" y="1290"/>
                </a:cubicBezTo>
                <a:cubicBezTo>
                  <a:pt x="591" y="1313"/>
                  <a:pt x="159" y="1309"/>
                  <a:pt x="0" y="1314"/>
                </a:cubicBezTo>
              </a:path>
            </a:pathLst>
          </a:custGeom>
          <a:noFill/>
          <a:ln w="1584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5CE-2AF4-4E10-9313-714A84AB6BC5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25233-0A66-4DB4-B35B-D8DCCBE4EF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Based Agent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gen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1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gen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48C-A1D3-4EA1-80B0-A703BEAEE2BE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38FDE-17CE-4D09-ACA6-EC023BE26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based Agent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040" y="1730160"/>
            <a:ext cx="80010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ML-RP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ote procedure calls using HTTP as the transport and XML as the enco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ML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PA Agent Markup Langu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FRODO framewor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 development at DFKI Kaiserslautern in the Knowledge Managemen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ntobrok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IFB/University of Karlsru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gen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622-8D74-4F85-A844-392A5B21FFCB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E1914-EE6F-418B-AFC5-7BA634FE35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FRODO Agent Framework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96192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gration of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parately developed OM (organizational memory) solutions and legacy (DB) syste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U (document analysis and understanding) components (e.g., for wrapping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tributed problem solv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sed 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eclarative knowledge represent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gents / speech acts / protocol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ternet-enabled: HTTP, XML, RDF, ..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B4F-8C57-4318-95BD-DF4A2A7E86EB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D984D-7C0C-427A-ACA6-15A837008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98400" y="2035080"/>
            <a:ext cx="34012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02120" y="3844800"/>
            <a:ext cx="39463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STRU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XML Quer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223280" y="1565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42000" y="33940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Query (XML-QL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00520" y="6087960"/>
            <a:ext cx="3735360" cy="129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84680" y="4791240"/>
            <a:ext cx="26193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ML queries ca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select sub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f XML 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73120" y="2133720"/>
            <a:ext cx="115920" cy="1158840"/>
          </a:xfrm>
          <a:custGeom>
            <a:avLst/>
            <a:gdLst>
              <a:gd name="textAreaLeft" fmla="*/ 74160 w 115920"/>
              <a:gd name="textAreaRight" fmla="*/ 116280 w 115920"/>
              <a:gd name="textAreaTop" fmla="*/ 29880 h 1158840"/>
              <a:gd name="textAreaBottom" fmla="*/ 1128960 h 115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08160" y="2017800"/>
            <a:ext cx="26496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 rot="5353800">
            <a:off x="3332880" y="814680"/>
            <a:ext cx="146160" cy="3008520"/>
          </a:xfrm>
          <a:custGeom>
            <a:avLst/>
            <a:gdLst>
              <a:gd name="textAreaLeft" fmla="*/ 93600 w 146160"/>
              <a:gd name="textAreaRight" fmla="*/ 146520 w 146160"/>
              <a:gd name="textAreaTop" fmla="*/ 78120 h 3008520"/>
              <a:gd name="textAreaBottom" fmla="*/ 2930400 h 300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1520" y="20685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2400" y="19461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ubelemen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7960" y="5549760"/>
            <a:ext cx="297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532-9BCE-4B82-B019-111C74D518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1671A-08B2-4895-A07F-AEA664B031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volved XML Technolog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25640" y="186012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PA-like agents communicate with XML message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48400" indent="-2484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mmunication via HTTP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48400" indent="-2484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volved XML technologies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62760" indent="-24840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XSLT for message transformation and information extrac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662760" indent="-24840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RDF for representing meta-informa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662760" indent="-24840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RDF Schema for representing ontologi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662760" indent="-24840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XML/RDF-based query and transformation languages for distributed inferenc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48400" indent="-248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rst prototypical realization of an RDF/RDF Schema query agent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based on an F-Logic implementation for RDF: SiLRI, Karlsruhe / Stanfor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A41-60D8-45DD-8C73-51D7197F1AFD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9B3C3-E035-4DC4-8F6F-0AC862061C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gents Communicate Via XML Mess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43240" y="1857240"/>
            <a:ext cx="434340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&lt;message type="</a:t>
            </a:r>
            <a:r>
              <a:rPr b="0" i="1" lang="en-US" sz="2000" spc="-1" strike="noStrike">
                <a:solidFill>
                  <a:srgbClr val="003366"/>
                </a:solidFill>
                <a:latin typeface="Courier Neu"/>
              </a:rPr>
              <a:t>message-type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sender="</a:t>
            </a:r>
            <a:r>
              <a:rPr b="0" i="1" lang="en-US" sz="2000" spc="-1" strike="noStrike">
                <a:solidFill>
                  <a:srgbClr val="003366"/>
                </a:solidFill>
                <a:latin typeface="Courier Neu"/>
              </a:rPr>
              <a:t>sender-url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receiver="</a:t>
            </a:r>
            <a:r>
              <a:rPr b="0" i="1" lang="en-US" sz="2000" spc="-1" strike="noStrike">
                <a:solidFill>
                  <a:srgbClr val="003366"/>
                </a:solidFill>
                <a:latin typeface="Courier Neu"/>
              </a:rPr>
              <a:t>receiver-url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                 </a:t>
            </a:r>
            <a:r>
              <a:rPr b="0" i="1" lang="en-US" sz="2000" spc="-1" strike="noStrike">
                <a:solidFill>
                  <a:srgbClr val="003366"/>
                </a:solidFill>
                <a:latin typeface="Courier Neu"/>
              </a:rPr>
              <a:t>additional-information</a:t>
            </a: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   </a:t>
            </a:r>
            <a:r>
              <a:rPr b="0" i="1" lang="en-US" sz="2000" spc="-1" strike="noStrike">
                <a:solidFill>
                  <a:srgbClr val="003366"/>
                </a:solidFill>
                <a:latin typeface="Courier Neu"/>
              </a:rPr>
              <a:t>cont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u"/>
              </a:rPr>
              <a:t>&lt;/messag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71640" y="41428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ssage typ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inform, request, agree, cancel, confirm, disconfirm, subscribe, ... (speech acts, FI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dditional inform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reply-with, in-reply-to, language, ontology, reply-by, protocol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n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XML “fores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39760" y="5895000"/>
            <a:ext cx="88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DAC-4527-4348-B631-2197A4CF2C76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2E59D-5D8F-4D63-A40D-4BB996027A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447920" y="1847880"/>
            <a:ext cx="2133360" cy="990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ssage Exchange is Based on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rnet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600200" y="2000160"/>
            <a:ext cx="1828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TML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2976480"/>
            <a:ext cx="2133360" cy="10670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00200" y="3129120"/>
            <a:ext cx="1828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ava Appl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459080" y="4187880"/>
            <a:ext cx="2133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ava 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080" y="5168880"/>
            <a:ext cx="2133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/C++ etc. 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2457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23880" y="36622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95680" y="1771560"/>
            <a:ext cx="0" cy="42544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022640" y="11444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10080" y="1847880"/>
            <a:ext cx="297180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5880" y="2076480"/>
            <a:ext cx="198144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162920" y="2228760"/>
            <a:ext cx="7617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gent 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162920" y="2914560"/>
            <a:ext cx="7617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gent 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3800" y="2610000"/>
            <a:ext cx="0" cy="228600"/>
          </a:xfrm>
          <a:prstGeom prst="line">
            <a:avLst/>
          </a:prstGeom>
          <a:ln cap="rnd" w="381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72200" y="2990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vle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352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vlet-enabled HTTP Serv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11880" y="4176720"/>
            <a:ext cx="29718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64160" y="56246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standard) HTTP Serv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12080" y="4253040"/>
            <a:ext cx="114300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240680" y="4405320"/>
            <a:ext cx="7617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GI 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240680" y="5091120"/>
            <a:ext cx="7617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GI 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560" y="4786200"/>
            <a:ext cx="0" cy="228600"/>
          </a:xfrm>
          <a:prstGeom prst="line">
            <a:avLst/>
          </a:prstGeom>
          <a:ln cap="rnd" w="381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72000" y="299088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2000" y="512460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65520" y="560700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57600" y="460836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684600" y="348444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657600" y="2381400"/>
            <a:ext cx="762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617-DA9B-4B71-8F08-39F432E5964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25095-B43A-402C-B70B-C6CCFAC61E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mple Integration of Foreign Software Components is Enabl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19160" y="21715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ll foreign software components which are designed as CGI programs are immediately usable as agents (no explicit wrappers needed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cess to agents simple for all software components that have access to a HTTP library (Java, C, C++, ...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RO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B96-67E1-45C2-8EC6-CE15EFD5044E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BA5E5-06DE-48CF-8839-C6F811E932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ntobroker Applic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2" name=""/>
          <p:cNvSpPr txBox="1"/>
          <p:nvPr/>
        </p:nvSpPr>
        <p:spPr>
          <a:xfrm rot="5400000">
            <a:off x="-1675440" y="3427920"/>
            <a:ext cx="4189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4FD-691B-4A0C-AE93-F4FFDC881022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7EA49-F575-40C5-B178-1B28D73DD8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ntobroker/On2broker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(AIFB/University of Karlsruhe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 rot="5400000">
            <a:off x="-1675440" y="3427920"/>
            <a:ext cx="4189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773280" y="1722600"/>
            <a:ext cx="8370720" cy="40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BD6-8558-4A0A-9B21-6CA9A319DEC2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A4479-EB97-4415-9EC0-16A0B2B79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ample Ontolog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-324000" y="2033640"/>
          <a:ext cx="10398240" cy="48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2033640"/>
                    <a:ext cx="1039824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 txBox="1"/>
          <p:nvPr/>
        </p:nvSpPr>
        <p:spPr>
          <a:xfrm rot="5400000">
            <a:off x="-1675440" y="3427920"/>
            <a:ext cx="4189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A3A-67AB-44A9-913C-0644ACC38C27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A6D3E-6774-4E62-BE1A-4E1AD7647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notated HTML P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861840" y="1608120"/>
            <a:ext cx="3456000" cy="477828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4389480" y="1593720"/>
            <a:ext cx="4876920" cy="50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head&gt;&lt;TITLE&gt; Richard Benjamins &lt;/TITLE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onto=“page:Researcher“&gt; &lt;/a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/head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H1&gt; &lt;A HREF=“pictures/id-rich.gif“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IMG  align=middle SRC=“pictures/richard.gif“&gt;&lt;/A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onto=“page[photo=href]“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REF=“http://www.iiia.csic.es/~richard/pictures/richard.gif“ &gt;&lt;/a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onto=“page[firstName=body]“&gt;Richard&lt;/a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&lt;a onto=“page[lastName=body]“&gt;Benjamins &lt;/a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/h1&gt; &lt;p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onto=“page[affiliation=body]“ HREF=“#card“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tificial Intelligence Research Institute (IIIA)&lt;/A&gt; -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href=“http://www.csic.es/“&gt;CSIC&lt;/a&gt;, Barcelona, Spain &lt;br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 &lt;br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onto=“page[affiliation=body]“ HREF=“http://www.swi.psy.uva.nl/“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pt. of Social Science Informatics (SWI)&lt;/A&gt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A HREF=“http://www.uva.nl/uva/english/“&gt;UvA&lt;/A&gt;,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sterdam, the Netherlan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532320" y="4044960"/>
            <a:ext cx="3233520" cy="249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 rot="5400000">
            <a:off x="-1675440" y="3427920"/>
            <a:ext cx="4189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90B-905F-450D-A179-79E9EC961485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5F2C-9714-48F2-8C55-232EEFA5CF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129200" y="1784520"/>
            <a:ext cx="4697280" cy="470520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 rot="5400000">
            <a:off x="-1675440" y="3427920"/>
            <a:ext cx="4189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ntobrok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7" name="table2" descr=""/>
          <p:cNvPicPr/>
          <p:nvPr/>
        </p:nvPicPr>
        <p:blipFill>
          <a:blip r:embed="rId2"/>
          <a:stretch/>
        </p:blipFill>
        <p:spPr>
          <a:xfrm>
            <a:off x="747720" y="1590840"/>
            <a:ext cx="4576680" cy="243648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ntobroker Query Too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713-ED34-421A-AE3F-47F05DF443AA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E1B20-1493-41D4-93B3-55DCA73855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ource Description Framewor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1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816-6C77-4285-B43E-0B9518127332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DBCA4-35D7-4855-A9FD-53BA731309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598040" y="2286000"/>
            <a:ext cx="300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(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Xaver M. Linde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Wikingerufer 7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10555 Berlin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Prolog Quer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1221480" y="18604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olog Ter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0960" y="40035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olog Quer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19240" y="5487840"/>
            <a:ext cx="3899160" cy="61308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83400" y="4452840"/>
            <a:ext cx="26406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olog queries ca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select substruc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f Prolog struc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22640" y="5796000"/>
            <a:ext cx="23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= "Wikingerufer 7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= "10555 Berlin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14520" y="2417760"/>
            <a:ext cx="74520" cy="1413000"/>
          </a:xfrm>
          <a:custGeom>
            <a:avLst/>
            <a:gdLst>
              <a:gd name="textAreaLeft" fmla="*/ 47520 w 74520"/>
              <a:gd name="textAreaRight" fmla="*/ 74880 w 74520"/>
              <a:gd name="textAreaTop" fmla="*/ 36720 h 1413000"/>
              <a:gd name="textAreaBottom" fmla="*/ 1376280 h 14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8280" y="2425680"/>
            <a:ext cx="265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structur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5353800">
            <a:off x="3089880" y="1356480"/>
            <a:ext cx="129960" cy="256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66600 h 2563920"/>
              <a:gd name="textAreaBottom" fmla="*/ 2497320 h 256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1520" y="2363760"/>
            <a:ext cx="22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75160" y="22734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ubstructur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0200" y="4481640"/>
            <a:ext cx="300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(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Xaver M. Linde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(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(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D12-EB88-48F3-B378-4AC0FDBFCA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0834D-71F0-4D31-A22C-2BF90FD73F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1828800" y="1798560"/>
            <a:ext cx="56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re is nothing interesting in what we are doing. The only interesting thing is the scale upon which we are attempting to do it.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487840" y="495288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.V. Guha, Epin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5" name=""/>
          <p:cNvSpPr/>
          <p:nvPr/>
        </p:nvSpPr>
        <p:spPr>
          <a:xfrm>
            <a:off x="91440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sclaim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93C-EE51-4D82-815A-3EB932C74E2B}" type="slidenum">
              <a:t>1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9AFBC-7D20-4D95-ADAC-DEDDF7E97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otivation: Why XML is not enough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roduction to RDF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quirements for KR on the We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RDF Data Mod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 Sche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tensions of RDF(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ols for RDF and RDF Schem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arser, Query, and Inference Engin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6DD-BDDE-45D1-B1FE-53AC0D37A4EE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3A3CE-9602-4E9B-8A40-1F785C08B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y The Shift Towards More Semantics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formation Overloa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formation on the Web currently aiming at Human Consump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formation Consumption is too time consumin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arch Engines fail more and mo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mbined coverage is less than 42% of the HTML-We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ata Interchange growing (e.g. B2B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needs a common semantic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XML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AD4-37B3-4980-B9E4-2B1565F2FFFF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7E3B4-9008-46F0-9BB0-ADF1B1B035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tensible Markup Language (XML) Revisit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Key idea: separate structure from present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ML DTDs or Schema define document 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lace HTML with two thing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omain specific markup language (defined in XM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map from that markup language to HTML (defined using XS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TD enables document recipients to tell whether they’ve received a well-formed docu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ives a minimal level of valid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B3E-15CD-4A94-ADEB-7F10C162ED85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AA19F-1BCF-4905-9F21-7D540CD017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y XML is Not Enough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in advantage of using XML is reusing the parser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nd document valid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ny different possibilities to encode a domain of discours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eads to difficulties when understanding of foreign documents is requir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==&gt; Next step: separate content from structure!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9DA-9DC0-4112-BF3F-DDED8F2DCEEC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E9267-39D9-4EF4-AD26-EC31AA68E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coding of Knowledge: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0" name=""/>
          <p:cNvSpPr/>
          <p:nvPr/>
        </p:nvSpPr>
        <p:spPr>
          <a:xfrm>
            <a:off x="1418760" y="21798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http://www.w3.org/Home/Lassil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4125960" y="2449080"/>
            <a:ext cx="1888920" cy="9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33440" y="2135160"/>
            <a:ext cx="2803680" cy="6793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368960" y="22017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reat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19400" y="301140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dless encoding possibilities in XML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347920" y="3503520"/>
            <a:ext cx="4521240" cy="1108080"/>
            <a:chOff x="2347920" y="3503520"/>
            <a:chExt cx="4521240" cy="1108080"/>
          </a:xfrm>
        </p:grpSpPr>
        <p:sp>
          <p:nvSpPr>
            <p:cNvPr id="1026" name=""/>
            <p:cNvSpPr/>
            <p:nvPr/>
          </p:nvSpPr>
          <p:spPr>
            <a:xfrm>
              <a:off x="2428560" y="3503520"/>
              <a:ext cx="4124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Creator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uri&gt;http://www.w3.org/Home/Lassila&lt;/uri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name&gt;Ora Lassila&lt;/name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/Creator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47920" y="3535560"/>
              <a:ext cx="4521240" cy="10760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325600" y="4746600"/>
            <a:ext cx="4521240" cy="1076400"/>
            <a:chOff x="2325600" y="4746600"/>
            <a:chExt cx="4521240" cy="1076400"/>
          </a:xfrm>
        </p:grpSpPr>
        <p:sp>
          <p:nvSpPr>
            <p:cNvPr id="1029" name=""/>
            <p:cNvSpPr/>
            <p:nvPr/>
          </p:nvSpPr>
          <p:spPr>
            <a:xfrm>
              <a:off x="2377080" y="4795560"/>
              <a:ext cx="443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Document uri=“http://www.w3.org/Home/Lassila”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Creator&gt;Ora Lassila&lt;/Creator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/Document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25600" y="4746600"/>
              <a:ext cx="4521240" cy="1076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228680" y="5923080"/>
            <a:ext cx="6654960" cy="507960"/>
            <a:chOff x="1228680" y="5923080"/>
            <a:chExt cx="6654960" cy="507960"/>
          </a:xfrm>
        </p:grpSpPr>
        <p:sp>
          <p:nvSpPr>
            <p:cNvPr id="1032" name=""/>
            <p:cNvSpPr/>
            <p:nvPr/>
          </p:nvSpPr>
          <p:spPr>
            <a:xfrm>
              <a:off x="1325520" y="6019920"/>
              <a:ext cx="649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&lt;Document uri=“http://www.w3.org/Home/Lassila” Creator=“Ora Lassila”/&gt;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8680" y="5923080"/>
              <a:ext cx="6654960" cy="50796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1059120" y="1612800"/>
            <a:ext cx="75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Creator of the Resource “http://www.w3.org/Home/Lassila” is Ora Lassil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27840" y="2162160"/>
            <a:ext cx="1768320" cy="650880"/>
            <a:chOff x="6027840" y="2162160"/>
            <a:chExt cx="1768320" cy="650880"/>
          </a:xfrm>
        </p:grpSpPr>
        <p:sp>
          <p:nvSpPr>
            <p:cNvPr id="1036" name=""/>
            <p:cNvSpPr/>
            <p:nvPr/>
          </p:nvSpPr>
          <p:spPr>
            <a:xfrm>
              <a:off x="6027840" y="2162160"/>
              <a:ext cx="1768320" cy="650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74160" y="22813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Ora Lassil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F16-71E5-4CB2-9A4C-6BBBE6299617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41C28-8B8A-4CDB-952B-AAB1C34DD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int to Point Communication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Machine-Understandable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075040" y="1792440"/>
            <a:ext cx="1617840" cy="1094760"/>
            <a:chOff x="2075040" y="1792440"/>
            <a:chExt cx="1617840" cy="1094760"/>
          </a:xfrm>
        </p:grpSpPr>
        <p:sp>
          <p:nvSpPr>
            <p:cNvPr id="1040" name=""/>
            <p:cNvSpPr/>
            <p:nvPr/>
          </p:nvSpPr>
          <p:spPr>
            <a:xfrm>
              <a:off x="2430720" y="1800720"/>
              <a:ext cx="355680" cy="1958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75040" y="2192400"/>
              <a:ext cx="355680" cy="1962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95320" y="2192400"/>
              <a:ext cx="355680" cy="1962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240" y="2691000"/>
              <a:ext cx="355680" cy="1962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08400" y="2680560"/>
              <a:ext cx="355680" cy="1962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269440" y="2088360"/>
              <a:ext cx="309240" cy="2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11920" y="2094840"/>
              <a:ext cx="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69800" y="2094840"/>
              <a:ext cx="0" cy="9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88760" y="2088360"/>
              <a:ext cx="2620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924640" y="2192400"/>
              <a:ext cx="5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51200" y="2094840"/>
              <a:ext cx="0" cy="9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68480" y="2482560"/>
              <a:ext cx="0" cy="100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29360" y="2590920"/>
              <a:ext cx="341280" cy="2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96680" y="2593080"/>
              <a:ext cx="0" cy="83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48200" y="2480760"/>
              <a:ext cx="2160" cy="102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2252880" y="2589120"/>
              <a:ext cx="29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80720" y="2593080"/>
              <a:ext cx="3060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91760" y="2596680"/>
              <a:ext cx="0" cy="8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3053520" y="2288520"/>
              <a:ext cx="28188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2528640" y="1992240"/>
              <a:ext cx="116280" cy="957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2809080" y="2388960"/>
              <a:ext cx="115920" cy="957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2196000" y="2388960"/>
              <a:ext cx="115920" cy="957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04880" y="1931400"/>
              <a:ext cx="225000" cy="180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337560" y="1792440"/>
              <a:ext cx="355320" cy="587880"/>
              <a:chOff x="3337560" y="1792440"/>
              <a:chExt cx="355320" cy="587880"/>
            </a:xfrm>
          </p:grpSpPr>
          <p:sp>
            <p:nvSpPr>
              <p:cNvPr id="1064" name=""/>
              <p:cNvSpPr/>
              <p:nvPr/>
            </p:nvSpPr>
            <p:spPr>
              <a:xfrm>
                <a:off x="3337560" y="1792440"/>
                <a:ext cx="355320" cy="19584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37560" y="2184120"/>
                <a:ext cx="355320" cy="1962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512520" y="2082240"/>
                <a:ext cx="0" cy="101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3455280" y="1983960"/>
                <a:ext cx="115560" cy="9576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86520" y="1933200"/>
                <a:ext cx="225000" cy="1800"/>
              </a:xfrm>
              <a:prstGeom prst="line">
                <a:avLst/>
              </a:prstGeom>
              <a:ln cap="rnd" w="2844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1440" y="2331360"/>
                <a:ext cx="224280" cy="1800"/>
              </a:xfrm>
              <a:prstGeom prst="line">
                <a:avLst/>
              </a:prstGeom>
              <a:ln cap="rnd" w="2844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2764440" y="2343960"/>
              <a:ext cx="225000" cy="180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34440" y="2319480"/>
              <a:ext cx="224640" cy="180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70680" y="2838240"/>
              <a:ext cx="224640" cy="180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73680" y="2850120"/>
              <a:ext cx="224640" cy="2160"/>
            </a:xfrm>
            <a:prstGeom prst="line">
              <a:avLst/>
            </a:prstGeom>
            <a:ln cap="rnd" w="2844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181320" y="291312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118040" y="28162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Translation Ste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79680" y="3467160"/>
            <a:ext cx="25398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xsd:schema xmlns:xsd="http://..."&gt;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 &lt;xsd:annotation&gt; A-Schem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/xsd:...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/xsd:schema</a:t>
            </a:r>
            <a:r>
              <a:rPr b="0" lang="en-US" sz="800" spc="-1" strike="noStrike">
                <a:solidFill>
                  <a:srgbClr val="003366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85640" y="1809720"/>
            <a:ext cx="21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ceptual Domain Model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Objects and Relations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92120" y="343368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TD or XML Schem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65480" y="4092480"/>
            <a:ext cx="0" cy="708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188240" y="424188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eploymen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11644200" y="9356760"/>
            <a:ext cx="974880" cy="94464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5365800" y="5675400"/>
            <a:ext cx="1980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cipient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using DTD 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636200" y="4724280"/>
            <a:ext cx="5558400" cy="1291680"/>
            <a:chOff x="1636200" y="4724280"/>
            <a:chExt cx="5558400" cy="1291680"/>
          </a:xfrm>
        </p:grpSpPr>
        <p:sp>
          <p:nvSpPr>
            <p:cNvPr id="1084" name=""/>
            <p:cNvSpPr/>
            <p:nvPr/>
          </p:nvSpPr>
          <p:spPr>
            <a:xfrm>
              <a:off x="2712600" y="4724280"/>
              <a:ext cx="224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XML-based Communic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using DTD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849400" y="5250960"/>
              <a:ext cx="167652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36200" y="567864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ender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using DTD 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506840" y="5024520"/>
              <a:ext cx="822240" cy="571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22680" y="5027760"/>
              <a:ext cx="63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XML-</a:t>
              </a:r>
              <a:br>
                <a:rPr sz="1400"/>
              </a:b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Pars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26200" y="5286240"/>
              <a:ext cx="8254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12520" y="4954680"/>
              <a:ext cx="9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Parse Tre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1091" name="" descr=""/>
            <p:cNvPicPr/>
            <p:nvPr/>
          </p:nvPicPr>
          <p:blipFill>
            <a:blip r:embed="rId2"/>
            <a:stretch/>
          </p:blipFill>
          <p:spPr>
            <a:xfrm>
              <a:off x="1817640" y="4946760"/>
              <a:ext cx="9748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3"/>
            <a:stretch/>
          </p:blipFill>
          <p:spPr>
            <a:xfrm>
              <a:off x="6219720" y="4826160"/>
              <a:ext cx="9748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4" name=""/>
          <p:cNvSpPr/>
          <p:nvPr/>
        </p:nvSpPr>
        <p:spPr>
          <a:xfrm>
            <a:off x="6464160" y="1890720"/>
            <a:ext cx="17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erson is_a Mamma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tudent is_a Pers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----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202200" y="593892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mmon Semantic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D78-0E87-4013-B5CE-F53C3DED443D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2E10A-AB2D-41C2-A849-99FDF7FA09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y Previously Unknown Communication Partn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3363840" y="2325600"/>
            <a:ext cx="2793960" cy="270684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2690640" y="1897200"/>
            <a:ext cx="974880" cy="70776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3"/>
          <a:stretch/>
        </p:blipFill>
        <p:spPr>
          <a:xfrm>
            <a:off x="6095880" y="4591080"/>
            <a:ext cx="974880" cy="94464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4"/>
          <a:stretch/>
        </p:blipFill>
        <p:spPr>
          <a:xfrm>
            <a:off x="1859040" y="3041640"/>
            <a:ext cx="974520" cy="77004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5"/>
          <a:stretch/>
        </p:blipFill>
        <p:spPr>
          <a:xfrm>
            <a:off x="2427120" y="4334040"/>
            <a:ext cx="974880" cy="9144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4278240" y="1625760"/>
            <a:ext cx="974880" cy="73944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4184640" y="5148360"/>
            <a:ext cx="974880" cy="70164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8"/>
          <a:stretch/>
        </p:blipFill>
        <p:spPr>
          <a:xfrm>
            <a:off x="5973840" y="1900080"/>
            <a:ext cx="820800" cy="7639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9"/>
          <a:stretch/>
        </p:blipFill>
        <p:spPr>
          <a:xfrm>
            <a:off x="6537240" y="3144960"/>
            <a:ext cx="968400" cy="97452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EBF-EDA6-4789-BEBB-7E55F7175294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CD9C-27D8-4884-8F70-7E6D039F2BA6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289560" y="4297320"/>
            <a:ext cx="974880" cy="944640"/>
          </a:xfrm>
          <a:prstGeom prst="rect">
            <a:avLst/>
          </a:prstGeom>
          <a:ln w="0">
            <a:noFill/>
          </a:ln>
        </p:spPr>
      </p:pic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ew Partners Don’t Underst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ach Oth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791080" y="4170240"/>
            <a:ext cx="25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ML-based Communic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sing DTD 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919240" y="4722840"/>
            <a:ext cx="1676520" cy="1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707480" y="5149800"/>
            <a:ext cx="18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nder using DTD 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51465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cipient using DTD 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76680" y="4495680"/>
            <a:ext cx="822240" cy="571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93960" y="4473720"/>
            <a:ext cx="6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ML-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96040" y="4757760"/>
            <a:ext cx="825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385960" y="440064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arse Tre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2"/>
          <a:stretch/>
        </p:blipFill>
        <p:spPr>
          <a:xfrm>
            <a:off x="1836720" y="4357800"/>
            <a:ext cx="974880" cy="7077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3"/>
          <a:stretch/>
        </p:blipFill>
        <p:spPr>
          <a:xfrm>
            <a:off x="1652760" y="2025720"/>
            <a:ext cx="974520" cy="77004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4"/>
          <a:stretch/>
        </p:blipFill>
        <p:spPr>
          <a:xfrm>
            <a:off x="6334200" y="1855800"/>
            <a:ext cx="968400" cy="97488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 flipH="1" flipV="1">
            <a:off x="2244240" y="2736360"/>
            <a:ext cx="1800" cy="1654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82480" y="2789280"/>
            <a:ext cx="217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mmunication Partn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sing DTD B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950480" y="356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746400" y="2838600"/>
            <a:ext cx="1800" cy="14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7640" y="3595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11560" y="2859120"/>
            <a:ext cx="217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mmunication Partn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using DTD 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14680" y="2367000"/>
            <a:ext cx="3719520" cy="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68600" y="189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950-7360-4C97-80E4-858345DDB167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A38E8-3016-4253-BE8F-4B5DF07757CD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509920" y="3332160"/>
            <a:ext cx="5719680" cy="14428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rging Steps Between Model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538360" y="1852560"/>
            <a:ext cx="26319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xsd:schema xmlns:xsd="http://..."&gt; </a:t>
            </a:r>
            <a:br>
              <a:rPr sz="1400"/>
            </a:b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   &lt;xsd:annotation&gt;A-Schem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/xsd:...</a:t>
            </a:r>
            <a:br>
              <a:rPr sz="1400"/>
            </a:b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/xsd:schema</a:t>
            </a:r>
            <a:r>
              <a:rPr b="0" lang="en-US" sz="800" spc="-1" strike="noStrike">
                <a:solidFill>
                  <a:srgbClr val="339966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2568600" y="3449520"/>
            <a:ext cx="1650240" cy="1114200"/>
            <a:chOff x="2568600" y="3449520"/>
            <a:chExt cx="1650240" cy="1114200"/>
          </a:xfrm>
        </p:grpSpPr>
        <p:sp>
          <p:nvSpPr>
            <p:cNvPr id="1133" name=""/>
            <p:cNvSpPr/>
            <p:nvPr/>
          </p:nvSpPr>
          <p:spPr>
            <a:xfrm>
              <a:off x="2931480" y="3457800"/>
              <a:ext cx="362880" cy="19908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68600" y="3856680"/>
              <a:ext cx="362880" cy="19980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01120" y="3856680"/>
              <a:ext cx="362880" cy="19980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21160" y="4363920"/>
              <a:ext cx="362880" cy="19980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08440" y="4353480"/>
              <a:ext cx="362880" cy="19980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767320" y="3750480"/>
              <a:ext cx="315360" cy="216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10160" y="3757320"/>
              <a:ext cx="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67320" y="3757320"/>
              <a:ext cx="0" cy="9936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92400" y="3750480"/>
              <a:ext cx="267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35480" y="3856680"/>
              <a:ext cx="5544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60240" y="3757320"/>
              <a:ext cx="0" cy="9936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77880" y="4151880"/>
              <a:ext cx="0" cy="10224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1920" y="4262040"/>
              <a:ext cx="347760" cy="216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00680" y="4264560"/>
              <a:ext cx="0" cy="846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45000" y="4149720"/>
              <a:ext cx="2160" cy="10404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2749680" y="4260240"/>
              <a:ext cx="29916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90480" y="4264560"/>
              <a:ext cx="31176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07640" y="4268160"/>
              <a:ext cx="0" cy="853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566520" y="3954240"/>
              <a:ext cx="287280" cy="18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031920" y="3652920"/>
              <a:ext cx="118800" cy="975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317040" y="4056480"/>
              <a:ext cx="118080" cy="975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691720" y="4056480"/>
              <a:ext cx="118080" cy="9756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006720" y="3590640"/>
              <a:ext cx="229680" cy="1800"/>
            </a:xfrm>
            <a:prstGeom prst="line">
              <a:avLst/>
            </a:prstGeom>
            <a:ln cap="rnd" w="2844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3856320" y="3449520"/>
              <a:ext cx="362520" cy="598320"/>
              <a:chOff x="3856320" y="3449520"/>
              <a:chExt cx="362520" cy="598320"/>
            </a:xfrm>
          </p:grpSpPr>
          <p:sp>
            <p:nvSpPr>
              <p:cNvPr id="1157" name=""/>
              <p:cNvSpPr/>
              <p:nvPr/>
            </p:nvSpPr>
            <p:spPr>
              <a:xfrm>
                <a:off x="3856320" y="3449520"/>
                <a:ext cx="362520" cy="199080"/>
              </a:xfrm>
              <a:prstGeom prst="rect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56320" y="3848040"/>
                <a:ext cx="362520" cy="199800"/>
              </a:xfrm>
              <a:prstGeom prst="rect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034880" y="3744360"/>
                <a:ext cx="0" cy="103680"/>
              </a:xfrm>
              <a:prstGeom prst="line">
                <a:avLst/>
              </a:prstGeom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3977280" y="3644640"/>
                <a:ext cx="118080" cy="9756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906360" y="3592440"/>
                <a:ext cx="229320" cy="1800"/>
              </a:xfrm>
              <a:prstGeom prst="line">
                <a:avLst/>
              </a:prstGeom>
              <a:ln cap="rnd" w="2844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41640" y="3997800"/>
                <a:ext cx="228960" cy="1800"/>
              </a:xfrm>
              <a:prstGeom prst="line">
                <a:avLst/>
              </a:prstGeom>
              <a:ln cap="rnd" w="2844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3271320" y="4010760"/>
              <a:ext cx="229680" cy="1800"/>
            </a:xfrm>
            <a:prstGeom prst="line">
              <a:avLst/>
            </a:prstGeom>
            <a:ln cap="rnd" w="2844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29080" y="3985920"/>
              <a:ext cx="228960" cy="1800"/>
            </a:xfrm>
            <a:prstGeom prst="line">
              <a:avLst/>
            </a:prstGeom>
            <a:ln cap="rnd" w="2844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971800" y="4513680"/>
              <a:ext cx="228960" cy="1800"/>
            </a:xfrm>
            <a:prstGeom prst="line">
              <a:avLst/>
            </a:prstGeom>
            <a:ln cap="rnd" w="2844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87040" y="4525920"/>
              <a:ext cx="228960" cy="2160"/>
            </a:xfrm>
            <a:prstGeom prst="line">
              <a:avLst/>
            </a:prstGeom>
            <a:ln cap="rnd" w="2844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5361120" y="1765440"/>
            <a:ext cx="27018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xsd:schema xmlns:xsd="http://..."&gt; 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    &lt;xsd:annotation&gt;B-Schem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xsd:...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xsd:schema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27280" y="5116680"/>
            <a:ext cx="304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xsl:stylesheet version="1.0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xmlns:xsl="http://....Transform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xsl:template match="/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/xsl:templat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lt;/xsl:stylesheet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32520" y="5094360"/>
            <a:ext cx="2865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xsl:stylesheet version="1.0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xmlns:xsl="http://....Transform"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xsl:template match="/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xsl:templat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/xsl:stylesheet</a:t>
            </a:r>
            <a:r>
              <a:rPr b="0" lang="en-US" sz="1400" spc="-1" strike="noStrike">
                <a:solidFill>
                  <a:srgbClr val="339966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73560" y="3046320"/>
            <a:ext cx="1440" cy="435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48440" y="2981160"/>
            <a:ext cx="1440" cy="435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346560" y="4511520"/>
            <a:ext cx="566640" cy="619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67600" y="4587840"/>
            <a:ext cx="601560" cy="528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5556240" y="3403440"/>
            <a:ext cx="2028240" cy="1128240"/>
            <a:chOff x="5556240" y="3403440"/>
            <a:chExt cx="2028240" cy="1128240"/>
          </a:xfrm>
        </p:grpSpPr>
        <p:sp>
          <p:nvSpPr>
            <p:cNvPr id="1175" name=""/>
            <p:cNvSpPr/>
            <p:nvPr/>
          </p:nvSpPr>
          <p:spPr>
            <a:xfrm>
              <a:off x="6033600" y="3403440"/>
              <a:ext cx="477360" cy="22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56240" y="3848400"/>
              <a:ext cx="477360" cy="22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88560" y="3848400"/>
              <a:ext cx="477360" cy="22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98280" y="4309200"/>
              <a:ext cx="477360" cy="222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79280" y="4304880"/>
              <a:ext cx="477360" cy="22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817600" y="3729960"/>
              <a:ext cx="41400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874120" y="3736800"/>
              <a:ext cx="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817600" y="3736800"/>
              <a:ext cx="0" cy="11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45640" y="3729960"/>
              <a:ext cx="351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6696720" y="3848400"/>
              <a:ext cx="72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96640" y="3736800"/>
              <a:ext cx="0" cy="11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0040" y="4177440"/>
              <a:ext cx="0" cy="127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87720" y="4175280"/>
              <a:ext cx="3600" cy="115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06560" y="3743640"/>
              <a:ext cx="0" cy="95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607080" y="3731760"/>
              <a:ext cx="699120" cy="2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165720" y="3621240"/>
              <a:ext cx="155520" cy="10872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540120" y="4070520"/>
              <a:ext cx="156240" cy="10872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718600" y="4070520"/>
              <a:ext cx="155520" cy="10872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32600" y="3551400"/>
              <a:ext cx="301320" cy="25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80720" y="4019760"/>
              <a:ext cx="301320" cy="25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35800" y="3991680"/>
              <a:ext cx="301320" cy="25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674680" y="4437000"/>
              <a:ext cx="302040" cy="1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90800" y="4446360"/>
              <a:ext cx="302040" cy="1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07120" y="3845880"/>
              <a:ext cx="477360" cy="222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3800" y="4010400"/>
              <a:ext cx="301320" cy="25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370400" y="387360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514400" y="396540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atch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49320" y="2001960"/>
            <a:ext cx="189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enginee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f the conceptual mod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55800" y="4341960"/>
            <a:ext cx="161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XML Document Translation Generation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e.g. in XSL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789280" y="1455840"/>
            <a:ext cx="16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TD 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616720" y="1477800"/>
            <a:ext cx="16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TD B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65080" y="5408640"/>
            <a:ext cx="1617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XML Document Translation fr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DTD A to DTD B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(and B to A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79680" y="1523880"/>
            <a:ext cx="0" cy="486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996840" y="1806120"/>
            <a:ext cx="7048440" cy="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50760" y="1467000"/>
            <a:ext cx="16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te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050480" y="346716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atch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D3D-70CD-4499-A5F5-D9211DDDC062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AE79B-8F7D-466C-A4B5-8E54D9EA3A95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The Element Tre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894240" y="39607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ode-Labeled, (Left-to-Right-)Ordered Element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377680" y="1884240"/>
            <a:ext cx="3377880" cy="2044080"/>
            <a:chOff x="5377680" y="1884240"/>
            <a:chExt cx="3377880" cy="2044080"/>
          </a:xfrm>
        </p:grpSpPr>
        <p:sp>
          <p:nvSpPr>
            <p:cNvPr id="287" name=""/>
            <p:cNvSpPr/>
            <p:nvPr/>
          </p:nvSpPr>
          <p:spPr>
            <a:xfrm>
              <a:off x="5753880" y="2309760"/>
              <a:ext cx="3001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(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Xaver M. Linde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Wikingerufer 7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10555 Berlin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77680" y="188424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Prolog Term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0360" y="2441520"/>
              <a:ext cx="74160" cy="141300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36720 h 1413000"/>
                <a:gd name="textAreaBottom" fmla="*/ 137628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4120" y="2449440"/>
              <a:ext cx="2649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66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5353800">
              <a:off x="7245720" y="1380600"/>
              <a:ext cx="129960" cy="2563560"/>
            </a:xfrm>
            <a:custGeom>
              <a:avLst/>
              <a:gdLst>
                <a:gd name="textAreaLeft" fmla="*/ 83160 w 129960"/>
                <a:gd name="textAreaRight" fmla="*/ 130320 w 129960"/>
                <a:gd name="textAreaTop" fmla="*/ 66600 h 2563560"/>
                <a:gd name="textAreaBottom" fmla="*/ 2496960 h 25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37000" y="238752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30640" y="22971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substructure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14400" y="1881360"/>
            <a:ext cx="4143960" cy="2049120"/>
            <a:chOff x="914400" y="1881360"/>
            <a:chExt cx="4143960" cy="2049120"/>
          </a:xfrm>
        </p:grpSpPr>
        <p:sp>
          <p:nvSpPr>
            <p:cNvPr id="295" name=""/>
            <p:cNvSpPr/>
            <p:nvPr/>
          </p:nvSpPr>
          <p:spPr>
            <a:xfrm>
              <a:off x="1304280" y="230652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29520" y="188136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20760" y="2438280"/>
              <a:ext cx="74520" cy="1412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6720 h 1412280"/>
                <a:gd name="textAreaBottom" fmla="*/ 1375560 h 141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2344680"/>
              <a:ext cx="264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Times New Roman"/>
                </a:rPr>
                <a:t>elem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5353800">
              <a:off x="3205440" y="985680"/>
              <a:ext cx="120600" cy="3326040"/>
            </a:xfrm>
            <a:custGeom>
              <a:avLst/>
              <a:gdLst>
                <a:gd name="textAreaLeft" fmla="*/ 77040 w 120600"/>
                <a:gd name="textAreaRight" fmla="*/ 120960 w 120600"/>
                <a:gd name="textAreaTop" fmla="*/ 86400 h 3326040"/>
                <a:gd name="textAreaBottom" fmla="*/ 3239640 h 33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83"/>
                  </a:lnTo>
                  <a:cubicBezTo>
                    <a:pt x="10800" y="9983"/>
                    <a:pt x="5400" y="10883"/>
                    <a:pt x="0" y="10883"/>
                  </a:cubicBezTo>
                  <a:cubicBezTo>
                    <a:pt x="5400" y="10883"/>
                    <a:pt x="10800" y="11783"/>
                    <a:pt x="10800" y="1268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7760" y="2384280"/>
              <a:ext cx="22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4280" y="22842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Times New Roman"/>
                </a:rPr>
                <a:t>subelemen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9600" y="4627440"/>
            <a:ext cx="6288480" cy="1829160"/>
            <a:chOff x="1479600" y="4627440"/>
            <a:chExt cx="6288480" cy="1829160"/>
          </a:xfrm>
        </p:grpSpPr>
        <p:sp>
          <p:nvSpPr>
            <p:cNvPr id="303" name=""/>
            <p:cNvSpPr/>
            <p:nvPr/>
          </p:nvSpPr>
          <p:spPr>
            <a:xfrm>
              <a:off x="4082760" y="46274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306160" y="501948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81360" y="501948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64240" y="499896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9600" y="605772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26880" y="605772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Wikingerufer 7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47800" y="605772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19600" y="54514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24600" y="545148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stre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34440" y="54514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03680" y="5781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7680" y="580212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91200" y="57798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300320" y="5405400"/>
            <a:ext cx="74520" cy="995400"/>
          </a:xfrm>
          <a:custGeom>
            <a:avLst/>
            <a:gdLst>
              <a:gd name="textAreaLeft" fmla="*/ 47520 w 74520"/>
              <a:gd name="textAreaRight" fmla="*/ 74880 w 74520"/>
              <a:gd name="textAreaTop" fmla="*/ 25920 h 995400"/>
              <a:gd name="textAreaBottom" fmla="*/ 969480 h 9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28880" y="5343480"/>
            <a:ext cx="2649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subtree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353800">
            <a:off x="4347360" y="1796760"/>
            <a:ext cx="330120" cy="5854680"/>
          </a:xfrm>
          <a:custGeom>
            <a:avLst/>
            <a:gdLst>
              <a:gd name="textAreaLeft" fmla="*/ 210960 w 330120"/>
              <a:gd name="textAreaRight" fmla="*/ 330480 w 330120"/>
              <a:gd name="textAreaTop" fmla="*/ 152640 h 5854680"/>
              <a:gd name="textAreaBottom" fmla="*/ 5702040 h 585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83"/>
                </a:lnTo>
                <a:cubicBezTo>
                  <a:pt x="10800" y="9983"/>
                  <a:pt x="5400" y="10883"/>
                  <a:pt x="0" y="10883"/>
                </a:cubicBezTo>
                <a:cubicBezTo>
                  <a:pt x="5400" y="10883"/>
                  <a:pt x="10800" y="11783"/>
                  <a:pt x="10800" y="126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69960" y="43149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DA5-076D-4817-AFED-9B8B757803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480E7-E012-44BF-B9E6-90CC1BF2C6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rging/Aligning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04680" y="187452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engineering step is costly and unnecessary, when a conceptual language is in us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eneration document translation procedures is again complicated and unnecessar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==&gt; use a level on top of XM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at are requirements for such a level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662-22CA-4C00-9965-DE9BD2593BAA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E11A0-19CE-430E-A846-689FAA05CD9D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stulates: Fundamental Requirements for KR on the Web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8868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1.  Knowledge on the Web is distributed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(link Knowledge on the Web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2.  Knowledge on the Web is biased - there is no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universal truth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it must be possible to dispute statemen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3.  Many different user communities: 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Extensibility and Simplicit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==&gt; Resource Description Framework (RDF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D8A-96F5-46E5-9F1B-0F0CE7D89932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C3F45-CAFF-455B-AF5E-F49D223E3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tion to RD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04680" y="149652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(Resource Description Framework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Beyond Machine readable to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Machine understandab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unites a wide variety of stakeholder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igital librarians, content-raters, privacy advocates, B2B industries, AI..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ignificant (but less than XML) industrial momentum, lead by W3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consists of two par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 Model (a set of triple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 Syntax (different XML serialization syntaxe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Schema for definition of Vocabularies (simple Ontologies) for RDF (and in RDF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4DD-1AA4-4C14-A900-F1DB3823CB63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EAAFD-E411-4425-B63F-34EA89F86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 Data Mod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72640" y="146664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resource is a thing you talk about (can reference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sources have URI’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 definitions are themselves Resources (linkage, see requirement 1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roperties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lots, define relationships to other resources or atomic valu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tatemen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Resourc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has 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Propert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Valu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(Values can be resources or atomic XML data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imilar to Frame System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652-06F7-4E32-B2FE-EF69B45F650D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460C-AFA9-4BE7-BC4B-BA7C07340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Simple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766440" y="155700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tate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a Lassila is the creator of the resource 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http://www.w3.org/Home/Lassil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Resource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(subject)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     http://www.w3.org/Home/Lassi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Property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(predicate)    http://www.schema.org/#Cre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Value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LucidaSansTypewriter"/>
              </a:rPr>
              <a:t>(object)        "Ora Lassila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Directed graph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33400" y="4989600"/>
            <a:ext cx="2957400" cy="7110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89360" y="5343480"/>
            <a:ext cx="2124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1600" y="5178600"/>
            <a:ext cx="29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LucidaSansTypewriter"/>
              </a:rPr>
              <a:t>http://www.w3.org/Home/Lassil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327200" y="50752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:Creat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5892840" y="5029200"/>
            <a:ext cx="1768320" cy="650880"/>
            <a:chOff x="5892840" y="5029200"/>
            <a:chExt cx="1768320" cy="650880"/>
          </a:xfrm>
        </p:grpSpPr>
        <p:sp>
          <p:nvSpPr>
            <p:cNvPr id="1231" name=""/>
            <p:cNvSpPr/>
            <p:nvPr/>
          </p:nvSpPr>
          <p:spPr>
            <a:xfrm>
              <a:off x="5892840" y="5029200"/>
              <a:ext cx="1768320" cy="650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39160" y="514836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Ora Lassil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C35-62EF-4E32-8681-5A673C78D7DA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C89DF-4800-4A61-A551-C3435EF4E1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add properties to </a:t>
            </a:r>
            <a:r>
              <a:rPr b="0" lang="en-US" sz="2200" spc="-1" strike="noStrike">
                <a:solidFill>
                  <a:srgbClr val="003366"/>
                </a:solidFill>
                <a:latin typeface="LucidaSansTypewriter"/>
              </a:rPr>
              <a:t>Creator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point through an intermediate </a:t>
            </a:r>
            <a:r>
              <a:rPr b="0" lang="en-US" sz="2200" spc="-1" strike="noStrike">
                <a:solidFill>
                  <a:srgbClr val="003366"/>
                </a:solidFill>
                <a:latin typeface="LucidaSansTypewriter"/>
              </a:rPr>
              <a:t>Resourc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276800" y="3625920"/>
            <a:ext cx="3170160" cy="7110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082320" y="284004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http://www.w3.org/Home/Lassil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11520" y="3362400"/>
            <a:ext cx="538200" cy="32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92240" y="32860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:Creat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29480" y="383688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erson://fi/65464563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714560" y="4329000"/>
            <a:ext cx="811080" cy="7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359600" y="44053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237360" y="4317840"/>
            <a:ext cx="823680" cy="7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35320" y="5019840"/>
            <a:ext cx="1270080" cy="579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226400" y="514836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ra Lassil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553080" y="5051520"/>
            <a:ext cx="1270080" cy="579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549480" y="5197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lassila@w3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844720" y="2651040"/>
            <a:ext cx="3170160" cy="711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805800" y="4395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Emai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574-9A57-47CF-857D-A58B67C775F5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D10FF-0DD8-4BE6-9BCD-A9A258124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lection Contain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7947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ultiple occurrences of the same </a:t>
            </a:r>
            <a:r>
              <a:rPr b="0" lang="en-US" sz="2200" spc="-1" strike="noStrike">
                <a:solidFill>
                  <a:srgbClr val="003366"/>
                </a:solidFill>
                <a:latin typeface="LucidaSansTypewriter"/>
              </a:rPr>
              <a:t>PropertyTyp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don’t establish a relation between the valu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Millers own a boat, a bike, and a TV se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Millers need (a car or a truck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(Sarah and Bob) bought a new c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defines three special </a:t>
            </a:r>
            <a:r>
              <a:rPr b="0" lang="en-US" sz="2200" spc="-1" strike="noStrike">
                <a:solidFill>
                  <a:srgbClr val="003366"/>
                </a:solidFill>
                <a:latin typeface="LucidaSansTypewriter"/>
              </a:rPr>
              <a:t>Resource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Bag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ordered value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rdf:B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quence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dered valu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rdf:Seq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Alternative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gle valu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LucidaSansTypewriter"/>
              </a:rPr>
              <a:t>rdf:A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e RDF does not enforce ‘set’ semantics amongst valu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625-9B23-4184-8F8E-0C59CDBCB202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C950E-8A4A-4BBB-A4B8-B80EB340DE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: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a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23223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tudents i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6.001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e Amy, Tim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hn, Mary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948360" y="5802480"/>
            <a:ext cx="1422360" cy="5284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948360" y="5141880"/>
            <a:ext cx="1422360" cy="5288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99400" y="4460760"/>
            <a:ext cx="1422360" cy="5288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97600" y="3751200"/>
            <a:ext cx="1422360" cy="5288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18480" y="3089160"/>
            <a:ext cx="1422360" cy="5288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927680" y="2562120"/>
            <a:ext cx="1422360" cy="5288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68640" y="4176720"/>
            <a:ext cx="1422360" cy="5284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479840" y="3079440"/>
            <a:ext cx="976320" cy="133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4479840" y="3352680"/>
            <a:ext cx="2428920" cy="110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4489560" y="4054320"/>
            <a:ext cx="2408040" cy="3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21240" y="4449600"/>
            <a:ext cx="2355840" cy="21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530600" y="4460760"/>
            <a:ext cx="2387880" cy="903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521240" y="4500720"/>
            <a:ext cx="2417760" cy="1555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221440" y="26384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Ba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55200" y="321624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/Students/Am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945120" y="387684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/Students/Ti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95160" y="45576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/Students/Joh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67880" y="524844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/Students/Mar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047000" y="590868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/Students/Su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461760" y="427356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agid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3070080" y="2286000"/>
            <a:ext cx="1422720" cy="528480"/>
            <a:chOff x="3070080" y="2286000"/>
            <a:chExt cx="1422720" cy="528480"/>
          </a:xfrm>
        </p:grpSpPr>
        <p:sp>
          <p:nvSpPr>
            <p:cNvPr id="1277" name=""/>
            <p:cNvSpPr/>
            <p:nvPr/>
          </p:nvSpPr>
          <p:spPr>
            <a:xfrm>
              <a:off x="3070080" y="2286000"/>
              <a:ext cx="1422720" cy="5284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78440" y="239220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/courses/6.00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3760920" y="2822400"/>
            <a:ext cx="7920" cy="1362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964600" y="3368520"/>
            <a:ext cx="7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tuden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386240" y="306396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typ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52120" y="354024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860080" y="385596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991840" y="431316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42600" y="486252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144120" y="540396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86B-A68F-424B-8A52-54C3E377032E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07457-8AC4-4F52-BB10-08BB502F1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: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lternativ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source code for X11 may be found at ftp.x.org, ftp.cs.purdue.edu, or ftp.eu.ne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481120" y="3909960"/>
            <a:ext cx="1390680" cy="611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35640" y="2651040"/>
            <a:ext cx="1390320" cy="611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81160" y="2478240"/>
            <a:ext cx="2295360" cy="731520"/>
            <a:chOff x="1181160" y="2478240"/>
            <a:chExt cx="2295360" cy="731520"/>
          </a:xfrm>
        </p:grpSpPr>
        <p:sp>
          <p:nvSpPr>
            <p:cNvPr id="1293" name=""/>
            <p:cNvSpPr/>
            <p:nvPr/>
          </p:nvSpPr>
          <p:spPr>
            <a:xfrm>
              <a:off x="1181160" y="2478240"/>
              <a:ext cx="2295360" cy="7315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84920" y="2666880"/>
              <a:ext cx="19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http://x.org/package/X1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4815720" y="28209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Al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4400" y="41482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p.x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671080" y="49402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p.cs.purdue.edu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927040" y="57135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p.eu.ne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89040" y="3200400"/>
            <a:ext cx="46692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657600" y="3107880"/>
            <a:ext cx="101592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851280" y="4185720"/>
            <a:ext cx="1797120" cy="9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630760" y="3970440"/>
            <a:ext cx="1390680" cy="610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81520" y="4794120"/>
            <a:ext cx="1390680" cy="6112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640480" y="5535720"/>
            <a:ext cx="1390680" cy="610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90880" y="4206960"/>
            <a:ext cx="1789200" cy="79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70360" y="4237200"/>
            <a:ext cx="1758960" cy="1574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742840" y="4029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lti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756240" y="29718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typ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15440" y="382572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975920" y="44560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056920" y="518796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df:_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3" name=""/>
          <p:cNvSpPr/>
          <p:nvPr/>
        </p:nvSpPr>
        <p:spPr>
          <a:xfrm>
            <a:off x="1990800" y="342900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our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FF3-31A6-417E-B951-2B01C7599EAD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30E82-74B3-4861-8C23-85F8D0D599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ements About Statements (Requirement 2: Dispute Statements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94960" y="204120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ing statements about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stateme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requires a process for transforming them into Resourc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LucidaSansTypewriter"/>
              </a:rPr>
              <a:t>subjec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original resourc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LucidaSansTypewriter"/>
              </a:rPr>
              <a:t>predica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original proper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LucidaSansTypewriter"/>
              </a:rPr>
              <a:t>objec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original valu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LucidaSans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LucidaSansTypewriter"/>
              </a:rPr>
              <a:t>typ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:Statement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596-5F22-42A9-B932-659A7556DA40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77B96-F301-4B0C-9919-39C1A22E09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ocument Type Definition and Tree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812520" y="410364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480" y="2516040"/>
            <a:ext cx="517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4000" y="18604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Definition (DT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63560" y="4637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687680" y="5029200"/>
            <a:ext cx="2133360" cy="477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5029200"/>
            <a:ext cx="0" cy="5270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45040" y="5008680"/>
            <a:ext cx="2112840" cy="487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720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4484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5880" y="60580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0760" y="5460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05400" y="546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15240" y="5460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84480" y="5791320"/>
            <a:ext cx="180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98480" y="58118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578952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55560" y="2516040"/>
            <a:ext cx="306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:=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:=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:=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:=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22320" y="195120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</a:rPr>
              <a:t>Extended Backus-Naur Form (EBNF)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850-8974-4448-BD95-37E6EFCA88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0FF5C-37AC-4EE8-B9E3-9871E42713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: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Reific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alph Swick believes that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creator of the resource http://www.w3.org/Home/Lassila is Ora Lassil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1127160" y="4378320"/>
            <a:ext cx="3038040" cy="1187280"/>
            <a:chOff x="1127160" y="4378320"/>
            <a:chExt cx="3038040" cy="1187280"/>
          </a:xfrm>
        </p:grpSpPr>
        <p:sp>
          <p:nvSpPr>
            <p:cNvPr id="1320" name=""/>
            <p:cNvSpPr/>
            <p:nvPr/>
          </p:nvSpPr>
          <p:spPr>
            <a:xfrm>
              <a:off x="1127160" y="5038560"/>
              <a:ext cx="1717560" cy="5270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742840" y="4378320"/>
              <a:ext cx="1422360" cy="792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67560" y="5116680"/>
              <a:ext cx="115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Statem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19360" y="458784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typ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3860640" y="3911760"/>
            <a:ext cx="1717920" cy="527040"/>
            <a:chOff x="3860640" y="3911760"/>
            <a:chExt cx="1717920" cy="527040"/>
          </a:xfrm>
        </p:grpSpPr>
        <p:sp>
          <p:nvSpPr>
            <p:cNvPr id="1325" name=""/>
            <p:cNvSpPr/>
            <p:nvPr/>
          </p:nvSpPr>
          <p:spPr>
            <a:xfrm>
              <a:off x="3860640" y="3911760"/>
              <a:ext cx="1717920" cy="5270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46200" y="40593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genid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4002120" y="4449600"/>
            <a:ext cx="1837440" cy="1309680"/>
            <a:chOff x="4002120" y="4449600"/>
            <a:chExt cx="1837440" cy="1309680"/>
          </a:xfrm>
        </p:grpSpPr>
        <p:sp>
          <p:nvSpPr>
            <p:cNvPr id="1328" name=""/>
            <p:cNvSpPr/>
            <p:nvPr/>
          </p:nvSpPr>
          <p:spPr>
            <a:xfrm>
              <a:off x="4002120" y="5384880"/>
              <a:ext cx="1380960" cy="374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64160" y="4449600"/>
              <a:ext cx="0" cy="914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34960" y="5421240"/>
              <a:ext cx="109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alph Swick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701600" y="4851360"/>
              <a:ext cx="11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b:believedB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290600" y="2897280"/>
            <a:ext cx="3016440" cy="1186920"/>
            <a:chOff x="1290600" y="2897280"/>
            <a:chExt cx="3016440" cy="1186920"/>
          </a:xfrm>
        </p:grpSpPr>
        <p:sp>
          <p:nvSpPr>
            <p:cNvPr id="1333" name=""/>
            <p:cNvSpPr/>
            <p:nvPr/>
          </p:nvSpPr>
          <p:spPr>
            <a:xfrm>
              <a:off x="1290600" y="2897280"/>
              <a:ext cx="3016440" cy="549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3271680" y="3444480"/>
              <a:ext cx="649440" cy="639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77440" y="301320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http://www.w3.org/Home/Lassil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21960" y="37018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subjec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5576760" y="4237200"/>
            <a:ext cx="2743200" cy="1269720"/>
            <a:chOff x="5576760" y="4237200"/>
            <a:chExt cx="2743200" cy="1269720"/>
          </a:xfrm>
        </p:grpSpPr>
        <p:sp>
          <p:nvSpPr>
            <p:cNvPr id="1338" name=""/>
            <p:cNvSpPr/>
            <p:nvPr/>
          </p:nvSpPr>
          <p:spPr>
            <a:xfrm>
              <a:off x="6939000" y="5132520"/>
              <a:ext cx="1380960" cy="374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576760" y="4237200"/>
              <a:ext cx="1330560" cy="10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71120" y="516744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Ora Lassil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8120" y="4556160"/>
              <a:ext cx="87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objec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109480" y="2968560"/>
            <a:ext cx="3126240" cy="1106640"/>
            <a:chOff x="5109480" y="2968560"/>
            <a:chExt cx="3126240" cy="1106640"/>
          </a:xfrm>
        </p:grpSpPr>
        <p:sp>
          <p:nvSpPr>
            <p:cNvPr id="1343" name=""/>
            <p:cNvSpPr/>
            <p:nvPr/>
          </p:nvSpPr>
          <p:spPr>
            <a:xfrm flipV="1">
              <a:off x="5486400" y="3332160"/>
              <a:ext cx="1119240" cy="743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6518160" y="2968560"/>
              <a:ext cx="1717560" cy="527040"/>
              <a:chOff x="6518160" y="2968560"/>
              <a:chExt cx="1717560" cy="527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518160" y="2968560"/>
                <a:ext cx="1717560" cy="52704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948000" y="3065400"/>
                <a:ext cx="83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:Creator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5109480" y="3193920"/>
              <a:ext cx="10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predicat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3627360" y="3414600"/>
            <a:ext cx="3301920" cy="1960560"/>
            <a:chOff x="3627360" y="3414600"/>
            <a:chExt cx="3301920" cy="1960560"/>
          </a:xfrm>
        </p:grpSpPr>
        <p:sp>
          <p:nvSpPr>
            <p:cNvPr id="1349" name=""/>
            <p:cNvSpPr/>
            <p:nvPr/>
          </p:nvSpPr>
          <p:spPr>
            <a:xfrm>
              <a:off x="3627360" y="3414600"/>
              <a:ext cx="3301920" cy="196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052160" y="3440160"/>
              <a:ext cx="83772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:Creato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CD1-A2AE-49E6-A56A-AA87B90098EA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E33EE-ECD1-41F1-ADEB-E372DCF74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Formal Model of RD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itself is mathematically straightforward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Basic Defini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perties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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itera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tements = Properties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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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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iterals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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Typ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df:type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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pertie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{RDF:type, sub, obj}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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tements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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bj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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3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triples like {p,r1,r2} the RDF spec should use some different bracketing, like (p,r1,r2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079-B8BA-4EFC-8D37-D6D0CAAADE5A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B3D7-A2DC-46A5-B01D-69230B8846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mal Model of RDF II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Reific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df:Statement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Resource-Propert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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df:predicate, rdf:subject, rdf:object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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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ification of a triple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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ed, sub, obj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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of Statements is an element r of Resources representing the reified triple and the elements s1, s2, s3, and s4 of Statements such that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1: {RDF:predicate, r, pred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2: {RDF:subject, r, sub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3: {RDF:object, r, obj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4: {RDF:type, r, [RDF:Statement]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ollec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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DF:Seq, RDF:Bag, and RDF:Alt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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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sources-Propertie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re is a subset of Properties corresponding to the ordinals (1, 2, 3, ...) called Ord. We refer 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lements of Ord as RDF:_1, RDF:_2, RDF:_3, ...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72F-DD19-4A6B-AE8F-C1D1ED6279CE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29710-169F-4C1D-8851-35D403BB5A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 Syntax I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7715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ata model does not enforce particular syntax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pecification suggests many different syntaxes based on XM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eneral form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7520" y="3637080"/>
            <a:ext cx="854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df:RD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df:Description about="http://www.w3.org/Home/Lassila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Creator&gt;Ora Lassila&lt;/s:Creator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createdWith rdf:resource=“http://www.w3c.org/amaya”/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rdf:Descripti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rdf:RD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2488680" y="3535200"/>
            <a:ext cx="1025640" cy="43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829960" y="331956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tarts an RDF-Descrip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5141520" y="3514680"/>
            <a:ext cx="1025640" cy="43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2104920" y="4468320"/>
            <a:ext cx="385920" cy="1251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019600" y="576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roperti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809320" y="33037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ubject (OID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2664000" y="4713120"/>
            <a:ext cx="426960" cy="103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70240" y="52498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Litera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630600" y="4479480"/>
            <a:ext cx="263520" cy="79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6647040" y="4763880"/>
            <a:ext cx="385560" cy="833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046480" y="5667480"/>
            <a:ext cx="34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Resource (possibly another RDF-description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F8C-6500-42DF-B067-59C8918D8091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2FCCD-73B0-445A-80B1-08479B7005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ulting Graph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52320" y="3949560"/>
            <a:ext cx="854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df:RD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df:Description about="http://www.w3.org/Home/Lassila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Creator&gt;Ora Lassila&lt;/s:Creator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createdWith rdf:resource=“http://www.w3c.org/amaya”/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rdf:Descripti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rdf:RD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1535040" y="1830240"/>
            <a:ext cx="6024240" cy="1773360"/>
            <a:chOff x="1535040" y="1830240"/>
            <a:chExt cx="6024240" cy="1773360"/>
          </a:xfrm>
        </p:grpSpPr>
        <p:grpSp>
          <p:nvGrpSpPr>
            <p:cNvPr id="1376" name=""/>
            <p:cNvGrpSpPr/>
            <p:nvPr/>
          </p:nvGrpSpPr>
          <p:grpSpPr>
            <a:xfrm>
              <a:off x="5187600" y="3076560"/>
              <a:ext cx="2371680" cy="527040"/>
              <a:chOff x="5187600" y="3076560"/>
              <a:chExt cx="2371680" cy="527040"/>
            </a:xfrm>
          </p:grpSpPr>
          <p:sp>
            <p:nvSpPr>
              <p:cNvPr id="1377" name=""/>
              <p:cNvSpPr/>
              <p:nvPr/>
            </p:nvSpPr>
            <p:spPr>
              <a:xfrm>
                <a:off x="5273280" y="3076560"/>
                <a:ext cx="2286000" cy="52704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87600" y="318276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http://www.w3c.org/amay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3028680" y="1830240"/>
              <a:ext cx="3016440" cy="549000"/>
              <a:chOff x="3028680" y="1830240"/>
              <a:chExt cx="3016440" cy="549000"/>
            </a:xfrm>
          </p:grpSpPr>
          <p:sp>
            <p:nvSpPr>
              <p:cNvPr id="1380" name=""/>
              <p:cNvSpPr/>
              <p:nvPr/>
            </p:nvSpPr>
            <p:spPr>
              <a:xfrm>
                <a:off x="3028680" y="1830240"/>
                <a:ext cx="3016440" cy="5490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215520" y="194616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http://www.w3.org/Home/Lassil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 flipH="1">
              <a:off x="2314080" y="2357280"/>
              <a:ext cx="1647720" cy="763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1535040" y="3160800"/>
              <a:ext cx="1380960" cy="374400"/>
              <a:chOff x="1535040" y="3160800"/>
              <a:chExt cx="1380960" cy="374400"/>
            </a:xfrm>
          </p:grpSpPr>
          <p:sp>
            <p:nvSpPr>
              <p:cNvPr id="1384" name=""/>
              <p:cNvSpPr/>
              <p:nvPr/>
            </p:nvSpPr>
            <p:spPr>
              <a:xfrm>
                <a:off x="1535040" y="3160800"/>
                <a:ext cx="1380960" cy="374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666800" y="319572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Ora Lassil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5851800" y="246204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:createdWi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32160" y="2368440"/>
              <a:ext cx="1058760" cy="689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18840" y="2486160"/>
              <a:ext cx="83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:Creato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5AE-86E2-4CDD-824A-9CF3993E93E0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AE3BF-F5FB-4FDC-864D-E17F14F75E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 Syntax II: Syntactic Variet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16040" y="2446200"/>
            <a:ext cx="834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Homepage rdf:about="http://www.w3.org/Home/Lassila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:Creator=“Ora Lassila”/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createdWith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s:HTMLEditor rdf:about=“http://www.w3c.org/amaya”/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s:createdWith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s:Homepage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523880" y="178740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122120" y="149868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Typing Inform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5872320" y="1917720"/>
            <a:ext cx="814320" cy="896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91040" y="15699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233400" y="161136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n-Element Proper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089000" y="3580920"/>
            <a:ext cx="542880" cy="1305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30520" y="47926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roper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110200" y="1827360"/>
            <a:ext cx="0" cy="63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74280" y="15001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ubject (OID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595520" y="1787400"/>
            <a:ext cx="1117440" cy="1838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221440" y="1827360"/>
            <a:ext cx="406080" cy="1788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185920" y="4643280"/>
            <a:ext cx="6664320" cy="1796760"/>
            <a:chOff x="2185920" y="4643280"/>
            <a:chExt cx="6664320" cy="1796760"/>
          </a:xfrm>
        </p:grpSpPr>
        <p:grpSp>
          <p:nvGrpSpPr>
            <p:cNvPr id="1405" name=""/>
            <p:cNvGrpSpPr/>
            <p:nvPr/>
          </p:nvGrpSpPr>
          <p:grpSpPr>
            <a:xfrm>
              <a:off x="4344840" y="5908680"/>
              <a:ext cx="2371680" cy="527040"/>
              <a:chOff x="4344840" y="5908680"/>
              <a:chExt cx="2371680" cy="527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4430520" y="5908680"/>
                <a:ext cx="2286000" cy="52704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344840" y="601488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http://www.w3c.org/amay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2185920" y="4682880"/>
              <a:ext cx="3016440" cy="549000"/>
              <a:chOff x="2185920" y="4682880"/>
              <a:chExt cx="3016440" cy="549000"/>
            </a:xfrm>
          </p:grpSpPr>
          <p:sp>
            <p:nvSpPr>
              <p:cNvPr id="1409" name=""/>
              <p:cNvSpPr/>
              <p:nvPr/>
            </p:nvSpPr>
            <p:spPr>
              <a:xfrm>
                <a:off x="2185920" y="4682880"/>
                <a:ext cx="3016440" cy="5490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372760" y="479880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http://www.w3.org/Home/Lassil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2468520" y="5240160"/>
              <a:ext cx="1648080" cy="763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2185920" y="6011640"/>
              <a:ext cx="1381320" cy="374400"/>
              <a:chOff x="2185920" y="6011640"/>
              <a:chExt cx="1381320" cy="374400"/>
            </a:xfrm>
          </p:grpSpPr>
          <p:sp>
            <p:nvSpPr>
              <p:cNvPr id="1413" name=""/>
              <p:cNvSpPr/>
              <p:nvPr/>
            </p:nvSpPr>
            <p:spPr>
              <a:xfrm>
                <a:off x="2185920" y="6011640"/>
                <a:ext cx="1381320" cy="374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318040" y="604656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Ora Lassil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5172480" y="550692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:createdWith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23040" y="5189400"/>
              <a:ext cx="1058760" cy="689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572920" y="5368680"/>
              <a:ext cx="83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s:Creato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705720" y="6164280"/>
              <a:ext cx="874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7570800" y="5891040"/>
              <a:ext cx="1279440" cy="549000"/>
              <a:chOff x="7570800" y="5891040"/>
              <a:chExt cx="1279440" cy="549000"/>
            </a:xfrm>
          </p:grpSpPr>
          <p:sp>
            <p:nvSpPr>
              <p:cNvPr id="1420" name=""/>
              <p:cNvSpPr/>
              <p:nvPr/>
            </p:nvSpPr>
            <p:spPr>
              <a:xfrm>
                <a:off x="7570800" y="5891040"/>
                <a:ext cx="1279440" cy="5490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650720" y="6006960"/>
                <a:ext cx="113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HTMLEditor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6089760" y="4662360"/>
              <a:ext cx="1371600" cy="549000"/>
              <a:chOff x="6089760" y="4662360"/>
              <a:chExt cx="1371600" cy="549000"/>
            </a:xfrm>
          </p:grpSpPr>
          <p:sp>
            <p:nvSpPr>
              <p:cNvPr id="1423" name=""/>
              <p:cNvSpPr/>
              <p:nvPr/>
            </p:nvSpPr>
            <p:spPr>
              <a:xfrm>
                <a:off x="6089760" y="4662360"/>
                <a:ext cx="1371600" cy="5490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176880" y="4778280"/>
                <a:ext cx="107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:Homepage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232600" y="4956120"/>
              <a:ext cx="874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05680" y="464328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typ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18680" y="583236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Times New Roman"/>
                </a:rPr>
                <a:t>rdf:typ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F84-4518-4F14-94D7-AA0245937FDF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BC7C2-8456-45FD-8ABD-675D4089E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 Schema (RDFS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980640" y="1636200"/>
            <a:ext cx="8001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just defines the data mod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eed for definition of vocabularies for the data model - an Ontology Language!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schemas are Web resources (and have URIs) and can be described using RDF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1C7-0464-4E49-99BE-3FB270F93C24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9296F-25F7-4653-95E3-29AD812A5B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st Important Modeling Primitiv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re Clas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oot-Clas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rdfs:Resourc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etaClas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rdfs:Clas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iteral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rdfs:Litera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s:subclassOf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propert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herited from RDF: properties (slot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s:dom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s:ran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s:label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s:commen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etc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herited from RDF: InstanceOf (</a:t>
            </a:r>
            <a:r>
              <a:rPr b="0" lang="en-US" sz="2600" spc="-1" strike="noStrike">
                <a:solidFill>
                  <a:srgbClr val="003366"/>
                </a:solidFill>
                <a:latin typeface="Courier New"/>
              </a:rPr>
              <a:t>rdf:typ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07F-2268-49BB-9A79-C3D56BA54318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1DEA-E15A-456B-BD94-0B4E1A160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-Schema: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292560" y="1889280"/>
            <a:ext cx="2905200" cy="36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179960" y="1979640"/>
            <a:ext cx="111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s:Resour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15480" y="1979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24560" y="3100320"/>
            <a:ext cx="2662200" cy="362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300280" y="3174840"/>
            <a:ext cx="136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yz:MotorVehic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685560" y="3174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612800" y="2857680"/>
            <a:ext cx="2284560" cy="36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350800" y="2948040"/>
            <a:ext cx="79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s:Clas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265920" y="2948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171960" y="23893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375720" y="2463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478680" y="2463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773680" y="2479680"/>
            <a:ext cx="363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977440" y="2570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80760" y="2570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5729400" y="2192400"/>
            <a:ext cx="226440" cy="907560"/>
            <a:chOff x="5729400" y="2192400"/>
            <a:chExt cx="226440" cy="907560"/>
          </a:xfrm>
        </p:grpSpPr>
        <p:sp>
          <p:nvSpPr>
            <p:cNvPr id="1451" name=""/>
            <p:cNvSpPr/>
            <p:nvPr/>
          </p:nvSpPr>
          <p:spPr>
            <a:xfrm flipH="1" flipV="1">
              <a:off x="5803560" y="2312640"/>
              <a:ext cx="152280" cy="787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29400" y="2192400"/>
              <a:ext cx="16488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86"/>
                  </a:moveTo>
                  <a:lnTo>
                    <a:pt x="28" y="0"/>
                  </a:lnTo>
                  <a:lnTo>
                    <a:pt x="0" y="105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2762280" y="2192400"/>
            <a:ext cx="968400" cy="664920"/>
            <a:chOff x="2762280" y="2192400"/>
            <a:chExt cx="968400" cy="664920"/>
          </a:xfrm>
        </p:grpSpPr>
        <p:sp>
          <p:nvSpPr>
            <p:cNvPr id="1454" name=""/>
            <p:cNvSpPr/>
            <p:nvPr/>
          </p:nvSpPr>
          <p:spPr>
            <a:xfrm flipV="1">
              <a:off x="2762280" y="2252160"/>
              <a:ext cx="877680" cy="60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564000" y="21924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7" y="105"/>
                  </a:moveTo>
                  <a:lnTo>
                    <a:pt x="105" y="0"/>
                  </a:lnTo>
                  <a:lnTo>
                    <a:pt x="0" y="19"/>
                  </a:lnTo>
                  <a:lnTo>
                    <a:pt x="6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3564000" y="2252520"/>
            <a:ext cx="1181160" cy="650880"/>
            <a:chOff x="3564000" y="2252520"/>
            <a:chExt cx="1181160" cy="650880"/>
          </a:xfrm>
        </p:grpSpPr>
        <p:sp>
          <p:nvSpPr>
            <p:cNvPr id="1457" name=""/>
            <p:cNvSpPr/>
            <p:nvPr/>
          </p:nvSpPr>
          <p:spPr>
            <a:xfrm flipH="1">
              <a:off x="3670200" y="2252520"/>
              <a:ext cx="1074960" cy="60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64000" y="275112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8" y="0"/>
                  </a:moveTo>
                  <a:lnTo>
                    <a:pt x="0" y="96"/>
                  </a:lnTo>
                  <a:lnTo>
                    <a:pt x="105" y="9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897360" y="2963880"/>
            <a:ext cx="1120680" cy="181080"/>
            <a:chOff x="3897360" y="2963880"/>
            <a:chExt cx="1120680" cy="181080"/>
          </a:xfrm>
        </p:grpSpPr>
        <p:sp>
          <p:nvSpPr>
            <p:cNvPr id="1460" name=""/>
            <p:cNvSpPr/>
            <p:nvPr/>
          </p:nvSpPr>
          <p:spPr>
            <a:xfrm flipH="1" flipV="1">
              <a:off x="4017960" y="3054240"/>
              <a:ext cx="10000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97360" y="296388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lnTo>
                    <a:pt x="0" y="48"/>
                  </a:lnTo>
                  <a:lnTo>
                    <a:pt x="86" y="10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1309680" y="2736720"/>
            <a:ext cx="636480" cy="650880"/>
            <a:chOff x="1309680" y="2736720"/>
            <a:chExt cx="636480" cy="650880"/>
          </a:xfrm>
        </p:grpSpPr>
        <p:sp>
          <p:nvSpPr>
            <p:cNvPr id="1463" name=""/>
            <p:cNvSpPr/>
            <p:nvPr/>
          </p:nvSpPr>
          <p:spPr>
            <a:xfrm>
              <a:off x="1309680" y="2736720"/>
              <a:ext cx="636480" cy="6508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8"/>
                  </a:moveTo>
                  <a:cubicBezTo>
                    <a:pt x="42" y="35"/>
                    <a:pt x="32" y="43"/>
                    <a:pt x="21" y="43"/>
                  </a:cubicBezTo>
                  <a:cubicBezTo>
                    <a:pt x="11" y="43"/>
                    <a:pt x="0" y="32"/>
                    <a:pt x="0" y="21"/>
                  </a:cubicBezTo>
                  <a:cubicBezTo>
                    <a:pt x="0" y="11"/>
                    <a:pt x="11" y="0"/>
                    <a:pt x="21" y="0"/>
                  </a:cubicBezTo>
                  <a:cubicBezTo>
                    <a:pt x="26" y="0"/>
                    <a:pt x="31" y="1"/>
                    <a:pt x="35" y="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79480" y="273672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0" y="67"/>
                  </a:moveTo>
                  <a:lnTo>
                    <a:pt x="105" y="105"/>
                  </a:lnTo>
                  <a:lnTo>
                    <a:pt x="7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882960" y="2389320"/>
            <a:ext cx="362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083480" y="2463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29560" y="2463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09680" y="2873520"/>
            <a:ext cx="363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510200" y="296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556280" y="296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713560" y="4173480"/>
            <a:ext cx="2527200" cy="36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631560" y="4264200"/>
            <a:ext cx="7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yz:Truck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412400" y="4264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97360" y="3705120"/>
            <a:ext cx="363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01120" y="3795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204080" y="379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097880" y="4022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5956200" y="3462480"/>
            <a:ext cx="1028880" cy="711000"/>
            <a:chOff x="5956200" y="3462480"/>
            <a:chExt cx="1028880" cy="711000"/>
          </a:xfrm>
        </p:grpSpPr>
        <p:sp>
          <p:nvSpPr>
            <p:cNvPr id="1479" name=""/>
            <p:cNvSpPr/>
            <p:nvPr/>
          </p:nvSpPr>
          <p:spPr>
            <a:xfrm flipH="1" flipV="1">
              <a:off x="6046920" y="3522600"/>
              <a:ext cx="938160" cy="65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56200" y="346248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114" y="10"/>
                  </a:moveTo>
                  <a:lnTo>
                    <a:pt x="0" y="0"/>
                  </a:lnTo>
                  <a:lnTo>
                    <a:pt x="47" y="96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4397400" y="2827440"/>
            <a:ext cx="361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97920" y="2903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644000" y="2903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292560" y="4780080"/>
            <a:ext cx="2905200" cy="361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60640" y="4870440"/>
            <a:ext cx="175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yz:PassengerVehicl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17160" y="4870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745160" y="3462480"/>
            <a:ext cx="1211040" cy="1317240"/>
            <a:chOff x="4745160" y="3462480"/>
            <a:chExt cx="1211040" cy="1317240"/>
          </a:xfrm>
        </p:grpSpPr>
        <p:sp>
          <p:nvSpPr>
            <p:cNvPr id="1488" name=""/>
            <p:cNvSpPr/>
            <p:nvPr/>
          </p:nvSpPr>
          <p:spPr>
            <a:xfrm flipV="1">
              <a:off x="4745160" y="3538080"/>
              <a:ext cx="1135080" cy="124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89520" y="346248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76" y="105"/>
                  </a:moveTo>
                  <a:lnTo>
                    <a:pt x="105" y="0"/>
                  </a:lnTo>
                  <a:lnTo>
                    <a:pt x="0" y="38"/>
                  </a:lnTo>
                  <a:lnTo>
                    <a:pt x="7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885960" y="1889280"/>
            <a:ext cx="2286000" cy="484200"/>
          </a:xfrm>
          <a:prstGeom prst="rect">
            <a:avLst/>
          </a:prstGeom>
          <a:solidFill>
            <a:srgbClr val="c0c0c0"/>
          </a:solidFill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46160" y="1995480"/>
            <a:ext cx="188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 = rdfs:subClassOf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29120" y="1995480"/>
            <a:ext cx="9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048320" y="220680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 = rdf:typ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387520" y="2206800"/>
            <a:ext cx="9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17600" y="4173480"/>
            <a:ext cx="2527560" cy="363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213360" y="4264200"/>
            <a:ext cx="63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yz:Va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856680" y="4264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413160" y="3432240"/>
            <a:ext cx="2421000" cy="741240"/>
            <a:chOff x="3413160" y="3432240"/>
            <a:chExt cx="2421000" cy="741240"/>
          </a:xfrm>
        </p:grpSpPr>
        <p:sp>
          <p:nvSpPr>
            <p:cNvPr id="1499" name=""/>
            <p:cNvSpPr/>
            <p:nvPr/>
          </p:nvSpPr>
          <p:spPr>
            <a:xfrm flipV="1">
              <a:off x="3413160" y="3508200"/>
              <a:ext cx="2300400" cy="66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667480" y="343224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29" y="105"/>
                  </a:moveTo>
                  <a:lnTo>
                    <a:pt x="105" y="19"/>
                  </a:lnTo>
                  <a:lnTo>
                    <a:pt x="0" y="0"/>
                  </a:lnTo>
                  <a:lnTo>
                    <a:pt x="29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01" name=""/>
          <p:cNvSpPr/>
          <p:nvPr/>
        </p:nvSpPr>
        <p:spPr>
          <a:xfrm>
            <a:off x="5349960" y="3946680"/>
            <a:ext cx="363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555160" y="4022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656680" y="4022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551920" y="4249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81960" y="3705120"/>
            <a:ext cx="363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885360" y="3795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988680" y="379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882120" y="4022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3035160" y="3220920"/>
            <a:ext cx="378000" cy="952560"/>
            <a:chOff x="3035160" y="3220920"/>
            <a:chExt cx="378000" cy="952560"/>
          </a:xfrm>
        </p:grpSpPr>
        <p:sp>
          <p:nvSpPr>
            <p:cNvPr id="1510" name=""/>
            <p:cNvSpPr/>
            <p:nvPr/>
          </p:nvSpPr>
          <p:spPr>
            <a:xfrm flipH="1" flipV="1">
              <a:off x="3110040" y="3327480"/>
              <a:ext cx="303120" cy="84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35160" y="322092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76"/>
                  </a:moveTo>
                  <a:lnTo>
                    <a:pt x="19" y="0"/>
                  </a:lnTo>
                  <a:lnTo>
                    <a:pt x="0" y="105"/>
                  </a:lnTo>
                  <a:lnTo>
                    <a:pt x="10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2671920" y="3220920"/>
            <a:ext cx="620280" cy="1679760"/>
            <a:chOff x="2671920" y="3220920"/>
            <a:chExt cx="620280" cy="1679760"/>
          </a:xfrm>
        </p:grpSpPr>
        <p:sp>
          <p:nvSpPr>
            <p:cNvPr id="1513" name=""/>
            <p:cNvSpPr/>
            <p:nvPr/>
          </p:nvSpPr>
          <p:spPr>
            <a:xfrm flipH="1" flipV="1">
              <a:off x="2747520" y="3327480"/>
              <a:ext cx="544680" cy="157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71920" y="322092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76"/>
                  </a:moveTo>
                  <a:lnTo>
                    <a:pt x="19" y="0"/>
                  </a:lnTo>
                  <a:lnTo>
                    <a:pt x="0" y="105"/>
                  </a:lnTo>
                  <a:lnTo>
                    <a:pt x="10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3413160" y="3205080"/>
            <a:ext cx="2300040" cy="1090800"/>
            <a:chOff x="3413160" y="3205080"/>
            <a:chExt cx="2300040" cy="1090800"/>
          </a:xfrm>
        </p:grpSpPr>
        <p:sp>
          <p:nvSpPr>
            <p:cNvPr id="1516" name=""/>
            <p:cNvSpPr/>
            <p:nvPr/>
          </p:nvSpPr>
          <p:spPr>
            <a:xfrm flipH="1" flipV="1">
              <a:off x="3519000" y="3281400"/>
              <a:ext cx="2194200" cy="1014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13160" y="320508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115" y="0"/>
                  </a:moveTo>
                  <a:lnTo>
                    <a:pt x="0" y="10"/>
                  </a:lnTo>
                  <a:lnTo>
                    <a:pt x="67" y="96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2460600" y="5384880"/>
            <a:ext cx="2525760" cy="361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289320" y="547524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yz:MiniVa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264560" y="5475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986360" y="5097600"/>
            <a:ext cx="833400" cy="468000"/>
            <a:chOff x="4986360" y="5097600"/>
            <a:chExt cx="833400" cy="468000"/>
          </a:xfrm>
        </p:grpSpPr>
        <p:sp>
          <p:nvSpPr>
            <p:cNvPr id="1522" name=""/>
            <p:cNvSpPr/>
            <p:nvPr/>
          </p:nvSpPr>
          <p:spPr>
            <a:xfrm>
              <a:off x="4986360" y="5218200"/>
              <a:ext cx="743040" cy="3474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0" y="23"/>
                  </a:moveTo>
                  <a:cubicBezTo>
                    <a:pt x="21" y="23"/>
                    <a:pt x="42" y="13"/>
                    <a:pt x="49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53080" y="5097600"/>
              <a:ext cx="166680" cy="1648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104"/>
                  </a:moveTo>
                  <a:lnTo>
                    <a:pt x="76" y="0"/>
                  </a:lnTo>
                  <a:lnTo>
                    <a:pt x="0" y="76"/>
                  </a:lnTo>
                  <a:lnTo>
                    <a:pt x="10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413080" y="4491000"/>
            <a:ext cx="387360" cy="972720"/>
            <a:chOff x="2413080" y="4491000"/>
            <a:chExt cx="387360" cy="972720"/>
          </a:xfrm>
        </p:grpSpPr>
        <p:sp>
          <p:nvSpPr>
            <p:cNvPr id="1525" name=""/>
            <p:cNvSpPr/>
            <p:nvPr/>
          </p:nvSpPr>
          <p:spPr>
            <a:xfrm>
              <a:off x="2413080" y="4601520"/>
              <a:ext cx="323640" cy="86220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24" y="63"/>
                  </a:moveTo>
                  <a:cubicBezTo>
                    <a:pt x="12" y="63"/>
                    <a:pt x="0" y="53"/>
                    <a:pt x="0" y="43"/>
                  </a:cubicBezTo>
                  <a:cubicBezTo>
                    <a:pt x="0" y="33"/>
                    <a:pt x="8" y="23"/>
                    <a:pt x="16" y="23"/>
                  </a:cubicBezTo>
                  <a:cubicBezTo>
                    <a:pt x="22" y="23"/>
                    <a:pt x="29" y="13"/>
                    <a:pt x="31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685240" y="4491000"/>
              <a:ext cx="115200" cy="15084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57" y="0"/>
                  </a:lnTo>
                  <a:lnTo>
                    <a:pt x="0" y="86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5349960" y="5384880"/>
            <a:ext cx="363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555160" y="5489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56680" y="5489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551920" y="5716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854360" y="4780080"/>
            <a:ext cx="363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059560" y="4870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161080" y="4870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056320" y="5095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581200" y="3462480"/>
            <a:ext cx="36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781720" y="3552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827800" y="3552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781720" y="3780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171960" y="3584520"/>
            <a:ext cx="361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372480" y="3675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418200" y="3675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372480" y="3902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76760" y="3220920"/>
            <a:ext cx="363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977280" y="3295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023360" y="3295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977280" y="3522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8" name=""/>
          <p:cNvSpPr/>
          <p:nvPr/>
        </p:nvSpPr>
        <p:spPr>
          <a:xfrm>
            <a:off x="1389240" y="3209760"/>
            <a:ext cx="1049040" cy="2306880"/>
          </a:xfrm>
          <a:custGeom>
            <a:avLst/>
            <a:gdLst/>
            <a:ahLst/>
            <a:rect l="l" t="t" r="r" b="b"/>
            <a:pathLst>
              <a:path w="687" h="1517">
                <a:moveTo>
                  <a:pt x="687" y="1517"/>
                </a:moveTo>
                <a:cubicBezTo>
                  <a:pt x="383" y="1291"/>
                  <a:pt x="80" y="1066"/>
                  <a:pt x="40" y="813"/>
                </a:cubicBezTo>
                <a:cubicBezTo>
                  <a:pt x="0" y="560"/>
                  <a:pt x="373" y="133"/>
                  <a:pt x="444" y="0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256400" y="454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9A1-E824-453D-8622-7356B083ECAD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47258-5D48-4B24-B320-38033964BF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ample: RDF-Schema in RDF-Sche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873000" y="1444680"/>
            <a:ext cx="753264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amespace-URL: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ttp://www.w3.org/2000/01/rdf-schema#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076400" y="2332080"/>
            <a:ext cx="6778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Class rdf:ID="Resource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en"&gt;Resource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fr"&gt;Ressource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comment&gt;The most general class&lt;/rdfs:comment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/rdfs:Class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Class rdf:ID="Class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en"&gt;Class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fr"&gt;Classe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comment&gt;The concept of Class&lt;/rdfs:comment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subClassOf rdf:resource="#Resource"/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/rdfs:Class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:Property ID="subClassOf"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en"&gt;subClassOf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label xml:lang="fr"&gt;sousClasseDe&lt;/rdfs:label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comment&gt;Indicates a subclass of a class&lt;/rdfs:comment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range rdf:resource="#Class"/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rdfs:domain rdf:resource="#Class"/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&lt;/rdf:Property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8F6-2644-41AC-87EC-955EC6F71787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62D0D-A9D4-4E0E-8404-34793D1FD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ocument Type Definition and Tree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925200" y="374976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67920" y="2131920"/>
            <a:ext cx="451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6560" y="160812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Definition (DT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72920" y="41893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687680" y="4530600"/>
            <a:ext cx="2133360" cy="478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968360" y="5292720"/>
            <a:ext cx="406440" cy="3445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94400" y="5303880"/>
            <a:ext cx="690480" cy="325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87200" y="55688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51040" y="61228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52880" y="61228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0760" y="49626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9880" y="55324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50160" y="55324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91040" y="5872320"/>
            <a:ext cx="180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8480" y="53132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26360" y="587700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30000" y="49626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73400" y="4519440"/>
            <a:ext cx="1300320" cy="468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304-8E9F-4A06-8B80-BB03BCEFB8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9D5CD-2CE8-4482-808D-0453D03E34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tensibility of RD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85600" y="204120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fine an Ontology of your Language with RDF Schema (like RDF-Schema itself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scribe Instance Data using your new Vocabular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vantage: all Languages use the same Data Model (simplifies Interoperability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220-EFEE-431E-AE80-8F0D5BC86457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85162-C220-43E6-AD68-EC3D718683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ntology Languages on Top of RDF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Princi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119960" y="20509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finition uses th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ata model of RD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009080" y="29462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fined in terms o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2674800" y="1589040"/>
            <a:ext cx="6387480" cy="4344120"/>
            <a:chOff x="2674800" y="1589040"/>
            <a:chExt cx="6387480" cy="4344120"/>
          </a:xfrm>
        </p:grpSpPr>
        <p:grpSp>
          <p:nvGrpSpPr>
            <p:cNvPr id="1561" name=""/>
            <p:cNvGrpSpPr/>
            <p:nvPr/>
          </p:nvGrpSpPr>
          <p:grpSpPr>
            <a:xfrm>
              <a:off x="4671720" y="4721040"/>
              <a:ext cx="1483200" cy="1212120"/>
              <a:chOff x="4671720" y="4721040"/>
              <a:chExt cx="1483200" cy="121212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71720" y="4721040"/>
                <a:ext cx="1483200" cy="12121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033520" y="495828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RDF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 flipH="1">
              <a:off x="5523840" y="4305960"/>
              <a:ext cx="1405440" cy="412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16320" y="3493800"/>
              <a:ext cx="1484280" cy="121176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40080" y="371844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RDF Schema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1567" name=""/>
            <p:cNvCxnSpPr>
              <a:stCxn id="1565" idx="0"/>
              <a:endCxn id="1565" idx="3"/>
            </p:cNvCxnSpPr>
            <p:nvPr/>
          </p:nvCxnSpPr>
          <p:spPr>
            <a:xfrm flipH="1" rot="16200000">
              <a:off x="7726320" y="3425040"/>
              <a:ext cx="606240" cy="743040"/>
            </a:xfrm>
            <a:prstGeom prst="curvedConnector5">
              <a:avLst>
                <a:gd name="adj1" fmla="val -105585"/>
                <a:gd name="adj2" fmla="val 94522"/>
                <a:gd name="adj3" fmla="val -105585"/>
              </a:avLst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grpSp>
          <p:nvGrpSpPr>
            <p:cNvPr id="1568" name=""/>
            <p:cNvGrpSpPr/>
            <p:nvPr/>
          </p:nvGrpSpPr>
          <p:grpSpPr>
            <a:xfrm>
              <a:off x="2674800" y="3382920"/>
              <a:ext cx="1483200" cy="1211400"/>
              <a:chOff x="2674800" y="3382920"/>
              <a:chExt cx="1483200" cy="1211400"/>
            </a:xfrm>
          </p:grpSpPr>
          <p:sp>
            <p:nvSpPr>
              <p:cNvPr id="1569" name=""/>
              <p:cNvSpPr/>
              <p:nvPr/>
            </p:nvSpPr>
            <p:spPr>
              <a:xfrm>
                <a:off x="2674800" y="3382920"/>
                <a:ext cx="1483200" cy="1211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841840" y="3486600"/>
                <a:ext cx="108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Ontolog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Language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4217400" y="4099320"/>
              <a:ext cx="27072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4104360" y="3671640"/>
              <a:ext cx="2747160" cy="3240"/>
            </a:xfrm>
            <a:prstGeom prst="line">
              <a:avLst/>
            </a:prstGeom>
            <a:ln w="9360">
              <a:solidFill>
                <a:srgbClr val="003366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182840" y="4302360"/>
              <a:ext cx="1029600" cy="430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4722840" y="1589040"/>
              <a:ext cx="1483200" cy="1211400"/>
              <a:chOff x="4722840" y="1589040"/>
              <a:chExt cx="1483200" cy="1211400"/>
            </a:xfrm>
          </p:grpSpPr>
          <p:sp>
            <p:nvSpPr>
              <p:cNvPr id="1575" name=""/>
              <p:cNvSpPr/>
              <p:nvPr/>
            </p:nvSpPr>
            <p:spPr>
              <a:xfrm>
                <a:off x="4722840" y="1589040"/>
                <a:ext cx="1483200" cy="1211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889160" y="1692720"/>
                <a:ext cx="100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Instance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 flipH="1">
              <a:off x="3477600" y="2077920"/>
              <a:ext cx="1174680" cy="132624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71200" y="2047320"/>
              <a:ext cx="1263600" cy="144612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67680" y="2807280"/>
              <a:ext cx="2160" cy="1898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76200" y="2095560"/>
            <a:ext cx="1155960" cy="3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263600" y="2987640"/>
            <a:ext cx="1147680" cy="32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211400" y="3673440"/>
            <a:ext cx="1241280" cy="324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124280" y="36766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s extension o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378800" y="1700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</a:rPr>
              <a:t>Legen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D16-D4D7-4C66-AF65-F9708B3DAB93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6BA05-146C-41A9-B000-34A12A54EB13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Semantic Web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10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Web of machine understandable Data, based on declarative languages on top of RDF (all use the same data model!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lligent Agent enabling architec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3C’s vision for the Semantic Web Architectu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830160" y="3529080"/>
            <a:ext cx="7198920" cy="2499480"/>
            <a:chOff x="830160" y="3529080"/>
            <a:chExt cx="7198920" cy="2499480"/>
          </a:xfrm>
        </p:grpSpPr>
        <p:sp>
          <p:nvSpPr>
            <p:cNvPr id="1590" name=""/>
            <p:cNvSpPr/>
            <p:nvPr/>
          </p:nvSpPr>
          <p:spPr>
            <a:xfrm>
              <a:off x="2625480" y="5577120"/>
              <a:ext cx="5403600" cy="4514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018760" y="55440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XM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30160" y="5577120"/>
              <a:ext cx="1795320" cy="4514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217160" y="55350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HTM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809160" y="5123520"/>
              <a:ext cx="1176840" cy="4510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636640" y="5125680"/>
              <a:ext cx="1176840" cy="4514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058080" y="5123520"/>
              <a:ext cx="1968840" cy="4510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52600" y="4683600"/>
              <a:ext cx="1176480" cy="4514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851920" y="510696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XHTM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40560" y="508356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MI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26960" y="5106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2920" y="46432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PIC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761000" y="3529080"/>
              <a:ext cx="3259080" cy="453240"/>
              <a:chOff x="4761000" y="3529080"/>
              <a:chExt cx="3259080" cy="453240"/>
            </a:xfrm>
          </p:grpSpPr>
          <p:sp>
            <p:nvSpPr>
              <p:cNvPr id="1603" name=""/>
              <p:cNvSpPr/>
              <p:nvPr/>
            </p:nvSpPr>
            <p:spPr>
              <a:xfrm>
                <a:off x="4761000" y="3531600"/>
                <a:ext cx="3259080" cy="45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72240" y="3529080"/>
                <a:ext cx="204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Declarative Languages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>
              <a:off x="6458760" y="3997080"/>
              <a:ext cx="2520" cy="1126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FC5-9D28-4ECF-89FA-0835F5F91467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543F8-2245-48FE-949F-5ACDA16E8A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98480" y="343080"/>
            <a:ext cx="834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RPA Agent Markup Language (DAML): An Information Foodchain Based on RD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5470560" y="5191200"/>
            <a:ext cx="1063440" cy="1292760"/>
            <a:chOff x="5470560" y="5191200"/>
            <a:chExt cx="1063440" cy="1292760"/>
          </a:xfrm>
        </p:grpSpPr>
        <p:grpSp>
          <p:nvGrpSpPr>
            <p:cNvPr id="1609" name=""/>
            <p:cNvGrpSpPr/>
            <p:nvPr/>
          </p:nvGrpSpPr>
          <p:grpSpPr>
            <a:xfrm>
              <a:off x="5595480" y="5191200"/>
              <a:ext cx="781920" cy="689040"/>
              <a:chOff x="5595480" y="5191200"/>
              <a:chExt cx="781920" cy="689040"/>
            </a:xfrm>
          </p:grpSpPr>
          <p:sp>
            <p:nvSpPr>
              <p:cNvPr id="1610" name=""/>
              <p:cNvSpPr/>
              <p:nvPr/>
            </p:nvSpPr>
            <p:spPr>
              <a:xfrm>
                <a:off x="5752080" y="5191200"/>
                <a:ext cx="625320" cy="542520"/>
              </a:xfrm>
              <a:prstGeom prst="can">
                <a:avLst>
                  <a:gd name="adj" fmla="val 25000"/>
                </a:avLst>
              </a:prstGeom>
              <a:solidFill>
                <a:srgbClr val="cc99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595480" y="5337360"/>
                <a:ext cx="625320" cy="542880"/>
              </a:xfrm>
              <a:prstGeom prst="can">
                <a:avLst>
                  <a:gd name="adj" fmla="val 25000"/>
                </a:avLst>
              </a:prstGeom>
              <a:solidFill>
                <a:srgbClr val="cc99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5470560" y="5842440"/>
              <a:ext cx="1063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 Agent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etadata</a:t>
              </a: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 Repository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1219320" y="2548080"/>
            <a:ext cx="1751040" cy="1523520"/>
            <a:chOff x="1219320" y="2548080"/>
            <a:chExt cx="1751040" cy="1523520"/>
          </a:xfrm>
        </p:grpSpPr>
        <p:pic>
          <p:nvPicPr>
            <p:cNvPr id="1614" name="protegeclasses" descr=""/>
            <p:cNvPicPr/>
            <p:nvPr/>
          </p:nvPicPr>
          <p:blipFill>
            <a:blip r:embed="rId1"/>
            <a:stretch/>
          </p:blipFill>
          <p:spPr>
            <a:xfrm>
              <a:off x="1312920" y="2548080"/>
              <a:ext cx="1563480" cy="10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1219320" y="3612600"/>
              <a:ext cx="175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 Agent Ontology Construction Too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3157560" y="1527120"/>
            <a:ext cx="1812960" cy="916560"/>
            <a:chOff x="3157560" y="1527120"/>
            <a:chExt cx="1812960" cy="916560"/>
          </a:xfrm>
        </p:grpSpPr>
        <p:sp>
          <p:nvSpPr>
            <p:cNvPr id="1617" name=""/>
            <p:cNvSpPr/>
            <p:nvPr/>
          </p:nvSpPr>
          <p:spPr>
            <a:xfrm>
              <a:off x="3157560" y="1984680"/>
              <a:ext cx="181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 Agent Ontology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Articulation</a:t>
              </a: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 Tookit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3402360" y="1527120"/>
              <a:ext cx="1321560" cy="481320"/>
              <a:chOff x="3402360" y="1527120"/>
              <a:chExt cx="1321560" cy="48132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3558240" y="1689480"/>
                <a:ext cx="1020600" cy="140040"/>
                <a:chOff x="3558240" y="1689480"/>
                <a:chExt cx="1020600" cy="140040"/>
              </a:xfrm>
            </p:grpSpPr>
            <p:sp>
              <p:nvSpPr>
                <p:cNvPr id="1620" name=""/>
                <p:cNvSpPr/>
                <p:nvPr/>
              </p:nvSpPr>
              <p:spPr>
                <a:xfrm flipV="1">
                  <a:off x="3558240" y="1689120"/>
                  <a:ext cx="308520" cy="140040"/>
                </a:xfrm>
                <a:custGeom>
                  <a:avLst/>
                  <a:gdLst>
                    <a:gd name="textAreaLeft" fmla="*/ 64080 w 308520"/>
                    <a:gd name="textAreaRight" fmla="*/ 244440 w 308520"/>
                    <a:gd name="textAreaTop" fmla="*/ 28800 h 140040"/>
                    <a:gd name="textAreaBottom" fmla="*/ 111240 h 14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3916440" y="1689120"/>
                  <a:ext cx="309600" cy="140040"/>
                </a:xfrm>
                <a:custGeom>
                  <a:avLst/>
                  <a:gdLst>
                    <a:gd name="textAreaLeft" fmla="*/ 64080 w 309600"/>
                    <a:gd name="textAreaRight" fmla="*/ 245520 w 309600"/>
                    <a:gd name="textAreaTop" fmla="*/ 28800 h 140040"/>
                    <a:gd name="textAreaBottom" fmla="*/ 111240 h 14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4270320" y="1689120"/>
                  <a:ext cx="308520" cy="140040"/>
                </a:xfrm>
                <a:custGeom>
                  <a:avLst/>
                  <a:gdLst>
                    <a:gd name="textAreaLeft" fmla="*/ 64080 w 308520"/>
                    <a:gd name="textAreaRight" fmla="*/ 244440 w 308520"/>
                    <a:gd name="textAreaTop" fmla="*/ 28800 h 140040"/>
                    <a:gd name="textAreaBottom" fmla="*/ 111240 h 14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402360" y="1849680"/>
                <a:ext cx="1321560" cy="158760"/>
                <a:chOff x="3402360" y="1849680"/>
                <a:chExt cx="1321560" cy="158760"/>
              </a:xfrm>
            </p:grpSpPr>
            <p:sp>
              <p:nvSpPr>
                <p:cNvPr id="1624" name=""/>
                <p:cNvSpPr/>
                <p:nvPr/>
              </p:nvSpPr>
              <p:spPr>
                <a:xfrm flipV="1">
                  <a:off x="3402360" y="1849320"/>
                  <a:ext cx="308520" cy="158760"/>
                </a:xfrm>
                <a:custGeom>
                  <a:avLst/>
                  <a:gdLst>
                    <a:gd name="textAreaLeft" fmla="*/ 64080 w 308520"/>
                    <a:gd name="textAreaRight" fmla="*/ 244440 w 308520"/>
                    <a:gd name="textAreaTop" fmla="*/ 32760 h 158760"/>
                    <a:gd name="textAreaBottom" fmla="*/ 126000 h 15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4415400" y="1849320"/>
                  <a:ext cx="308520" cy="158760"/>
                </a:xfrm>
                <a:custGeom>
                  <a:avLst/>
                  <a:gdLst>
                    <a:gd name="textAreaLeft" fmla="*/ 64080 w 308520"/>
                    <a:gd name="textAreaRight" fmla="*/ 244440 w 308520"/>
                    <a:gd name="textAreaTop" fmla="*/ 32760 h 158760"/>
                    <a:gd name="textAreaBottom" fmla="*/ 126000 h 15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3735720" y="1849320"/>
                  <a:ext cx="309600" cy="158760"/>
                </a:xfrm>
                <a:custGeom>
                  <a:avLst/>
                  <a:gdLst>
                    <a:gd name="textAreaLeft" fmla="*/ 64080 w 309600"/>
                    <a:gd name="textAreaRight" fmla="*/ 245520 w 309600"/>
                    <a:gd name="textAreaTop" fmla="*/ 32760 h 158760"/>
                    <a:gd name="textAreaBottom" fmla="*/ 126000 h 15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4076640" y="1849320"/>
                  <a:ext cx="311040" cy="158760"/>
                </a:xfrm>
                <a:custGeom>
                  <a:avLst/>
                  <a:gdLst>
                    <a:gd name="textAreaLeft" fmla="*/ 64440 w 311040"/>
                    <a:gd name="textAreaRight" fmla="*/ 246600 w 311040"/>
                    <a:gd name="textAreaTop" fmla="*/ 32760 h 158760"/>
                    <a:gd name="textAreaBottom" fmla="*/ 126000 h 15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3714480" y="1527120"/>
                <a:ext cx="676800" cy="138240"/>
                <a:chOff x="3714480" y="1527120"/>
                <a:chExt cx="676800" cy="138240"/>
              </a:xfrm>
            </p:grpSpPr>
            <p:sp>
              <p:nvSpPr>
                <p:cNvPr id="1629" name=""/>
                <p:cNvSpPr/>
                <p:nvPr/>
              </p:nvSpPr>
              <p:spPr>
                <a:xfrm flipV="1">
                  <a:off x="3714480" y="1527120"/>
                  <a:ext cx="308520" cy="138240"/>
                </a:xfrm>
                <a:custGeom>
                  <a:avLst/>
                  <a:gdLst>
                    <a:gd name="textAreaLeft" fmla="*/ 64080 w 308520"/>
                    <a:gd name="textAreaRight" fmla="*/ 244440 w 308520"/>
                    <a:gd name="textAreaTop" fmla="*/ 28440 h 138240"/>
                    <a:gd name="textAreaBottom" fmla="*/ 109800 h 13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4080240" y="1527120"/>
                  <a:ext cx="311040" cy="138240"/>
                </a:xfrm>
                <a:custGeom>
                  <a:avLst/>
                  <a:gdLst>
                    <a:gd name="textAreaLeft" fmla="*/ 64440 w 311040"/>
                    <a:gd name="textAreaRight" fmla="*/ 246600 w 311040"/>
                    <a:gd name="textAreaTop" fmla="*/ 28440 h 138240"/>
                    <a:gd name="textAreaBottom" fmla="*/ 109800 h 13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77" y="21600"/>
                      </a:lnTo>
                      <a:lnTo>
                        <a:pt x="4923" y="2160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255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1" name=""/>
          <p:cNvGrpSpPr/>
          <p:nvPr/>
        </p:nvGrpSpPr>
        <p:grpSpPr>
          <a:xfrm>
            <a:off x="6721560" y="4576680"/>
            <a:ext cx="1249200" cy="934920"/>
            <a:chOff x="6721560" y="4576680"/>
            <a:chExt cx="1249200" cy="934920"/>
          </a:xfrm>
        </p:grpSpPr>
        <p:sp>
          <p:nvSpPr>
            <p:cNvPr id="1632" name=""/>
            <p:cNvSpPr/>
            <p:nvPr/>
          </p:nvSpPr>
          <p:spPr>
            <a:xfrm>
              <a:off x="6721560" y="4870080"/>
              <a:ext cx="1249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 Agent Inference Engin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1633" name="alp" descr=""/>
            <p:cNvPicPr/>
            <p:nvPr/>
          </p:nvPicPr>
          <p:blipFill>
            <a:blip r:embed="rId2"/>
            <a:stretch/>
          </p:blipFill>
          <p:spPr>
            <a:xfrm>
              <a:off x="6940440" y="4576680"/>
              <a:ext cx="812880" cy="3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4" name=""/>
          <p:cNvGrpSpPr/>
          <p:nvPr/>
        </p:nvGrpSpPr>
        <p:grpSpPr>
          <a:xfrm>
            <a:off x="3657600" y="5032440"/>
            <a:ext cx="1125360" cy="1372680"/>
            <a:chOff x="3657600" y="5032440"/>
            <a:chExt cx="1125360" cy="1372680"/>
          </a:xfrm>
        </p:grpSpPr>
        <p:sp>
          <p:nvSpPr>
            <p:cNvPr id="1635" name=""/>
            <p:cNvSpPr/>
            <p:nvPr/>
          </p:nvSpPr>
          <p:spPr>
            <a:xfrm>
              <a:off x="3657600" y="5946120"/>
              <a:ext cx="112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nnotated Web-Pag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3719880" y="5032440"/>
              <a:ext cx="1000440" cy="977760"/>
              <a:chOff x="3719880" y="5032440"/>
              <a:chExt cx="1000440" cy="977760"/>
            </a:xfrm>
          </p:grpSpPr>
          <p:grpSp>
            <p:nvGrpSpPr>
              <p:cNvPr id="1637" name=""/>
              <p:cNvGrpSpPr/>
              <p:nvPr/>
            </p:nvGrpSpPr>
            <p:grpSpPr>
              <a:xfrm>
                <a:off x="4133880" y="5032440"/>
                <a:ext cx="241200" cy="244440"/>
                <a:chOff x="4133880" y="5032440"/>
                <a:chExt cx="241200" cy="2444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33880" y="5032440"/>
                  <a:ext cx="24120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4168080" y="512388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202640" y="512388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168080" y="515448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4202640" y="515448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237200" y="515448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202640" y="518508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3788640" y="5765760"/>
                <a:ext cx="241560" cy="244440"/>
                <a:chOff x="3788640" y="5765760"/>
                <a:chExt cx="241560" cy="24444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3788640" y="5765760"/>
                  <a:ext cx="24156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823200" y="585720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857760" y="585720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823200" y="588780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857760" y="588780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891960" y="588780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857760" y="591840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3719880" y="5307120"/>
                <a:ext cx="241200" cy="244440"/>
                <a:chOff x="3719880" y="5307120"/>
                <a:chExt cx="241200" cy="24444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3719880" y="5307120"/>
                  <a:ext cx="24120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754080" y="53985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788640" y="539856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754080" y="54291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788640" y="54291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823200" y="542916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788640" y="54597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4375080" y="5765760"/>
                <a:ext cx="241560" cy="244440"/>
                <a:chOff x="4375080" y="5765760"/>
                <a:chExt cx="241560" cy="24444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4375080" y="5765760"/>
                  <a:ext cx="24156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4409640" y="585720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444200" y="585720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4409640" y="588780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4444200" y="588780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478400" y="588780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444200" y="591840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"/>
              <p:cNvGrpSpPr/>
              <p:nvPr/>
            </p:nvGrpSpPr>
            <p:grpSpPr>
              <a:xfrm>
                <a:off x="4133880" y="5460120"/>
                <a:ext cx="241200" cy="244080"/>
                <a:chOff x="4133880" y="5460120"/>
                <a:chExt cx="241200" cy="244080"/>
              </a:xfrm>
            </p:grpSpPr>
            <p:sp>
              <p:nvSpPr>
                <p:cNvPr id="1670" name=""/>
                <p:cNvSpPr/>
                <p:nvPr/>
              </p:nvSpPr>
              <p:spPr>
                <a:xfrm>
                  <a:off x="4133880" y="5460120"/>
                  <a:ext cx="241200" cy="24408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4168080" y="55515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4202640" y="5551560"/>
                  <a:ext cx="0" cy="30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168080" y="55821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4202640" y="55821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237200" y="5582160"/>
                  <a:ext cx="0" cy="30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4202640" y="56127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4478760" y="5307120"/>
                <a:ext cx="241560" cy="244440"/>
                <a:chOff x="4478760" y="5307120"/>
                <a:chExt cx="241560" cy="24444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4478760" y="5307120"/>
                  <a:ext cx="24156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513320" y="53985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547880" y="539856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513320" y="54291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4547880" y="5429160"/>
                  <a:ext cx="103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582080" y="5429160"/>
                  <a:ext cx="0" cy="30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547880" y="5459760"/>
                  <a:ext cx="687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 flipH="1" flipV="1">
                <a:off x="3857760" y="5520960"/>
                <a:ext cx="69120" cy="274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3926880" y="5215320"/>
                <a:ext cx="207000" cy="1220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960720" y="5276880"/>
                <a:ext cx="241560" cy="5191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 flipV="1">
                <a:off x="3961080" y="5429160"/>
                <a:ext cx="310320" cy="30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4375080" y="5459760"/>
                <a:ext cx="103320" cy="1220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 flipV="1">
                <a:off x="4374720" y="5215680"/>
                <a:ext cx="103320" cy="1526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857400" y="5123880"/>
                <a:ext cx="276120" cy="183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flipV="1">
                <a:off x="4271400" y="5673600"/>
                <a:ext cx="103320" cy="183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030200" y="5857200"/>
                <a:ext cx="344880" cy="30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4513320" y="5551920"/>
                <a:ext cx="34560" cy="2134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5" name="portal" descr=""/>
          <p:cNvPicPr/>
          <p:nvPr/>
        </p:nvPicPr>
        <p:blipFill>
          <a:blip r:embed="rId3"/>
          <a:stretch/>
        </p:blipFill>
        <p:spPr>
          <a:xfrm>
            <a:off x="7732800" y="3103560"/>
            <a:ext cx="712800" cy="7826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7620120" y="382104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unity Web Por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754760" y="2022480"/>
            <a:ext cx="69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nd Us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8116920" y="2422080"/>
            <a:ext cx="0" cy="652680"/>
          </a:xfrm>
          <a:prstGeom prst="line">
            <a:avLst/>
          </a:prstGeom>
          <a:ln w="76320">
            <a:solidFill>
              <a:srgbClr val="80008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906640" y="5554800"/>
            <a:ext cx="689040" cy="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721560" y="4056120"/>
            <a:ext cx="625320" cy="455400"/>
          </a:xfrm>
          <a:prstGeom prst="line">
            <a:avLst/>
          </a:prstGeom>
          <a:ln w="1144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970440" y="4251240"/>
            <a:ext cx="249120" cy="71604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6033960" y="4381200"/>
            <a:ext cx="0" cy="716040"/>
          </a:xfrm>
          <a:prstGeom prst="line">
            <a:avLst/>
          </a:prstGeom>
          <a:ln w="114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 flipV="1">
            <a:off x="4157280" y="2490480"/>
            <a:ext cx="1187640" cy="392040"/>
          </a:xfrm>
          <a:prstGeom prst="line">
            <a:avLst/>
          </a:prstGeom>
          <a:ln w="114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6721560" y="3583080"/>
            <a:ext cx="874800" cy="15840"/>
          </a:xfrm>
          <a:prstGeom prst="line">
            <a:avLst/>
          </a:prstGeom>
          <a:ln w="114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3657600" y="2490840"/>
            <a:ext cx="438120" cy="78264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782960" y="2556000"/>
            <a:ext cx="2063520" cy="1955160"/>
            <a:chOff x="4782960" y="2556000"/>
            <a:chExt cx="2063520" cy="1955160"/>
          </a:xfrm>
        </p:grpSpPr>
        <p:sp>
          <p:nvSpPr>
            <p:cNvPr id="1707" name=""/>
            <p:cNvSpPr/>
            <p:nvPr/>
          </p:nvSpPr>
          <p:spPr>
            <a:xfrm>
              <a:off x="5595840" y="398844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nTo Agent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4782960" y="2556000"/>
              <a:ext cx="2063520" cy="1955160"/>
              <a:chOff x="4782960" y="2556000"/>
              <a:chExt cx="2063520" cy="1955160"/>
            </a:xfrm>
          </p:grpSpPr>
          <p:pic>
            <p:nvPicPr>
              <p:cNvPr id="1709" name="SAT2" descr=""/>
              <p:cNvPicPr/>
              <p:nvPr/>
            </p:nvPicPr>
            <p:blipFill>
              <a:blip r:embed="rId4"/>
              <a:stretch/>
            </p:blipFill>
            <p:spPr>
              <a:xfrm>
                <a:off x="4782960" y="3444480"/>
                <a:ext cx="916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0" name="SAT2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3800" y="3198600"/>
                <a:ext cx="635040" cy="73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1" name="SAT2" descr=""/>
              <p:cNvPicPr/>
              <p:nvPr/>
            </p:nvPicPr>
            <p:blipFill>
              <a:blip r:embed="rId6"/>
              <a:stretch/>
            </p:blipFill>
            <p:spPr>
              <a:xfrm>
                <a:off x="5448600" y="2638080"/>
                <a:ext cx="422640" cy="49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2" name="SAT2" descr=""/>
              <p:cNvPicPr/>
              <p:nvPr/>
            </p:nvPicPr>
            <p:blipFill>
              <a:blip r:embed="rId7"/>
              <a:stretch/>
            </p:blipFill>
            <p:spPr>
              <a:xfrm>
                <a:off x="6493320" y="2556000"/>
                <a:ext cx="353160" cy="41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13" name=""/>
          <p:cNvGrpSpPr/>
          <p:nvPr/>
        </p:nvGrpSpPr>
        <p:grpSpPr>
          <a:xfrm>
            <a:off x="3124080" y="3408480"/>
            <a:ext cx="938160" cy="1059480"/>
            <a:chOff x="3124080" y="3408480"/>
            <a:chExt cx="938160" cy="1059480"/>
          </a:xfrm>
        </p:grpSpPr>
        <p:sp>
          <p:nvSpPr>
            <p:cNvPr id="1714" name=""/>
            <p:cNvSpPr/>
            <p:nvPr/>
          </p:nvSpPr>
          <p:spPr>
            <a:xfrm>
              <a:off x="3124080" y="419148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logi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3124080" y="3408480"/>
              <a:ext cx="937800" cy="782640"/>
              <a:chOff x="3124080" y="3408480"/>
              <a:chExt cx="937800" cy="782640"/>
            </a:xfrm>
          </p:grpSpPr>
          <p:grpSp>
            <p:nvGrpSpPr>
              <p:cNvPr id="1716" name=""/>
              <p:cNvGrpSpPr/>
              <p:nvPr/>
            </p:nvGrpSpPr>
            <p:grpSpPr>
              <a:xfrm>
                <a:off x="3374280" y="3408480"/>
                <a:ext cx="687600" cy="717480"/>
                <a:chOff x="3374280" y="3408480"/>
                <a:chExt cx="687600" cy="71748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3374280" y="3408480"/>
                  <a:ext cx="687600" cy="717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8" name=""/>
                <p:cNvGrpSpPr/>
                <p:nvPr/>
              </p:nvGrpSpPr>
              <p:grpSpPr>
                <a:xfrm>
                  <a:off x="3466080" y="3459600"/>
                  <a:ext cx="457920" cy="535680"/>
                  <a:chOff x="3466080" y="3459600"/>
                  <a:chExt cx="457920" cy="53568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>
                    <a:off x="3828240" y="3904920"/>
                    <a:ext cx="91440" cy="90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H="1" flipV="1">
                    <a:off x="3694680" y="3596040"/>
                    <a:ext cx="45720" cy="22788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41120" y="3778920"/>
                    <a:ext cx="13716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3695040" y="3778920"/>
                    <a:ext cx="168120" cy="16344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H="1">
                    <a:off x="3511440" y="3778920"/>
                    <a:ext cx="18324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flipV="1">
                    <a:off x="3649320" y="3504600"/>
                    <a:ext cx="183240" cy="9108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flipH="1" flipV="1">
                    <a:off x="3603240" y="3459600"/>
                    <a:ext cx="91440" cy="13680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H="1">
                    <a:off x="3603240" y="359640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649320" y="3733200"/>
                    <a:ext cx="137520" cy="1368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466080" y="373320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32560" y="373320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649320" y="355068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786840" y="3504960"/>
                    <a:ext cx="4536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557520" y="3550680"/>
                    <a:ext cx="4536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603240" y="3459600"/>
                    <a:ext cx="4572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4" name=""/>
              <p:cNvGrpSpPr/>
              <p:nvPr/>
            </p:nvGrpSpPr>
            <p:grpSpPr>
              <a:xfrm>
                <a:off x="3124080" y="3473280"/>
                <a:ext cx="687600" cy="717840"/>
                <a:chOff x="3124080" y="3473280"/>
                <a:chExt cx="687600" cy="71784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124080" y="3473280"/>
                  <a:ext cx="687600" cy="717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215880" y="3524400"/>
                  <a:ext cx="457920" cy="536040"/>
                  <a:chOff x="3215880" y="3524400"/>
                  <a:chExt cx="457920" cy="53604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578040" y="3970080"/>
                    <a:ext cx="91440" cy="90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flipH="1" flipV="1">
                    <a:off x="3444480" y="3661200"/>
                    <a:ext cx="45720" cy="22824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90920" y="3844080"/>
                    <a:ext cx="13716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44840" y="3844080"/>
                    <a:ext cx="168120" cy="16344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flipH="1">
                    <a:off x="3261240" y="3844080"/>
                    <a:ext cx="18324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flipV="1">
                    <a:off x="3399120" y="3569400"/>
                    <a:ext cx="183240" cy="9108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 flipH="1" flipV="1">
                    <a:off x="3353040" y="3524400"/>
                    <a:ext cx="91440" cy="13680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H="1">
                    <a:off x="3353040" y="366120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399120" y="3798360"/>
                    <a:ext cx="137520" cy="1368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215880" y="379836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3582360" y="379836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399120" y="3615480"/>
                    <a:ext cx="91440" cy="9108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536640" y="3569760"/>
                    <a:ext cx="4536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307320" y="3615480"/>
                    <a:ext cx="4536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353040" y="3524400"/>
                    <a:ext cx="45720" cy="4536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52" name=""/>
          <p:cNvSpPr/>
          <p:nvPr/>
        </p:nvSpPr>
        <p:spPr>
          <a:xfrm flipV="1">
            <a:off x="4532400" y="4446720"/>
            <a:ext cx="438120" cy="52056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856040" y="5554800"/>
            <a:ext cx="625680" cy="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70360" y="3078000"/>
            <a:ext cx="500040" cy="32544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219560" y="3794040"/>
            <a:ext cx="6253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6477120" y="5541480"/>
            <a:ext cx="874440" cy="195480"/>
          </a:xfrm>
          <a:prstGeom prst="line">
            <a:avLst/>
          </a:prstGeom>
          <a:ln w="76320">
            <a:solidFill>
              <a:srgbClr val="99cc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6908760" y="1823760"/>
            <a:ext cx="838080" cy="731880"/>
          </a:xfrm>
          <a:prstGeom prst="line">
            <a:avLst/>
          </a:prstGeom>
          <a:ln w="76320">
            <a:solidFill>
              <a:srgbClr val="8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1028880" y="4129200"/>
            <a:ext cx="2133360" cy="2243160"/>
            <a:chOff x="1028880" y="4129200"/>
            <a:chExt cx="2133360" cy="2243160"/>
          </a:xfrm>
        </p:grpSpPr>
        <p:sp>
          <p:nvSpPr>
            <p:cNvPr id="1759" name=""/>
            <p:cNvSpPr/>
            <p:nvPr/>
          </p:nvSpPr>
          <p:spPr>
            <a:xfrm>
              <a:off x="1028880" y="5913360"/>
              <a:ext cx="213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OnTo Agent Web-Page Annotation Too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1311480" y="4129200"/>
              <a:ext cx="1568160" cy="1767960"/>
              <a:chOff x="1311480" y="4129200"/>
              <a:chExt cx="1568160" cy="1767960"/>
            </a:xfrm>
          </p:grpSpPr>
          <p:pic>
            <p:nvPicPr>
              <p:cNvPr id="1761" name="examplepage002" descr=""/>
              <p:cNvPicPr/>
              <p:nvPr/>
            </p:nvPicPr>
            <p:blipFill>
              <a:blip r:embed="rId8"/>
              <a:stretch/>
            </p:blipFill>
            <p:spPr>
              <a:xfrm>
                <a:off x="1311480" y="4129200"/>
                <a:ext cx="1568160" cy="176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2" name="examplepage003" descr=""/>
              <p:cNvPicPr/>
              <p:nvPr/>
            </p:nvPicPr>
            <p:blipFill>
              <a:blip r:embed="rId9"/>
              <a:stretch/>
            </p:blipFill>
            <p:spPr>
              <a:xfrm>
                <a:off x="1387440" y="4541760"/>
                <a:ext cx="988560" cy="108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3" name="examplepage00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000" y="4814640"/>
                <a:ext cx="990360" cy="99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64" name="" descr=""/>
          <p:cNvPicPr/>
          <p:nvPr/>
        </p:nvPicPr>
        <p:blipFill>
          <a:blip r:embed="rId11"/>
          <a:stretch/>
        </p:blipFill>
        <p:spPr>
          <a:xfrm>
            <a:off x="7750080" y="1219320"/>
            <a:ext cx="1127160" cy="76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19B-99C7-4162-B1B0-4EA9C4D172E3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813A5-654C-49DD-BE25-D12523032F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DF-Resour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914040" y="1507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-Editor: Protégé 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ww-smi.stanford.edu/projects/prote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-Parser and APIs/Query Engin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ttp://www-db.stanford.edu/~melnik/rdf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ttp://www.aifb.uni-karlsruhe.de/~sde/rdf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 Knowledge Sourc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MOZ - Open Directory (largest human created Web-directory) http://www.dmoz.or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eneral Inform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DF Interest Mailing list: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www-rdf-interest@w3.org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rchive: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http//lists.w3.org/Archives/Public/www-rdf-interest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Courier New"/>
              </a:rPr>
              <a:t>SemanticWeb.or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86E-7F43-4803-9BCC-B9A1DD46A79E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68D71-F366-4FE9-9A75-E267C9A46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pen Issues of RD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DF-Schema is still evolv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RIs: What is the URI of a person?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ther real world entity?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Killer Applications”: Search Engines? B2B-Communication (e.g. ebXML.org ?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operability between RDF-Schema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D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A22-44B1-484B-8B3E-9217ED0B9851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2A443-9E92-4483-ADB6-04A25BF3E0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 txBox="1"/>
          <p:nvPr/>
        </p:nvSpPr>
        <p:spPr>
          <a:xfrm>
            <a:off x="1644480" y="2525760"/>
            <a:ext cx="581364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50B-7BD1-4680-BCD4-CA4FDFD3BAF5}" type="slidenum">
              <a:t>1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BF925-19D7-4F50-83DC-C9B7873CC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090440" y="1630440"/>
            <a:ext cx="756000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Grosso, Rohit Khare, Peter Karp, Dan Brickley for their kind permission to use 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reas Abecker, Heiko Maus, Andreas Lauer, Hansi Hein, Stefan Klink, Bertin Klein, and other colleagues at DFKI for fruitful discu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ter Fankhauser for valuable input on query langua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liotte Rusty Harold for his 100% comprehensive XML Bibl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metalab.unc.edu/xml/books/bible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AC2-766A-4EF6-BA61-E0A2AF6B9164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97D50-31B7-45F0-A0E0-ED4B7CF51E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 rot="4200">
            <a:off x="1665360" y="3228840"/>
            <a:ext cx="6181560" cy="1760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fer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6" name=""/>
          <p:cNvSpPr txBox="1"/>
          <p:nvPr/>
        </p:nvSpPr>
        <p:spPr>
          <a:xfrm rot="5400000">
            <a:off x="-1578600" y="3683520"/>
            <a:ext cx="3995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fer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CEE-A2FE-4232-8249-0A4C85E5AFF4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0FD7A-D929-47F7-A35D-722DB01D4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coon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coon Publishing Framework. Available at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xml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apache.org/cocoon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SS2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scading Style Sheets, level 2. Available at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w3.org/TR/REC-CSS2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M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PA Agent Markup Language. Availabe at http://www.oasis-open.org/cover/daml.html ,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dtsn.darpa.mil/iso/programtemp.asp?mode=347 , and http://www.daml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ublin Core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vailable at http://purl.oclc.org/dc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ernandez9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 Query Languages: Experiences and Exemplars, Mary Fernandez, Jérôme Siméon, Philip Wadler, 1999. Available at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3.org/1999/09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ql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docs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query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ODO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FRODO Project. Homepage available at http://www.dfki.uni-kl.de/frodo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I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tology Interchange Language. Availabe at http://www.ontoknowledge.org/oil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XM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Pro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XML-Tab. Available at http://smi-web.stanford.edu/people/sinte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 rot="5400000">
            <a:off x="-1578600" y="3683520"/>
            <a:ext cx="3995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fer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FAD-BD42-48DF-82D1-D2DB4EFA4EF3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74C69-777C-416C-9AA0-E4D450AB0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Well-Formedness and Validit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4280" y="2884320"/>
            <a:ext cx="392436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pen and close all tag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mpty tags end with /&gt;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re is a unique root ele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lements may not overlap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ttribute values are quot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&lt; and &amp; are only used to start tags and entiti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nly the five predefined entity references are us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11200" y="2884320"/>
            <a:ext cx="392436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atch the constraints listed in the DTD (or, generate from DTD as linearized derivation tree, as shown later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44640" y="1519200"/>
            <a:ext cx="30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ML principles for     a document being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well-forme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11560" y="1519200"/>
            <a:ext cx="40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ML principle for                    a document being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vali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with respect to (w.r.t.) a DT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5234040" y="4944960"/>
            <a:ext cx="357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ecked 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lidator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uch as http://www.stg.brown.edu/service/xmlvalid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252-1F90-4DF9-9253-A0FA6BD927FB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C9A67-BE06-4384-9926-A707504C4D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914040" y="16552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&amp;T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Querying and Transforming XML. Available at http://www.w3.org/TandS/QL/QL98/pp/query-transform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DF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mepage: http://www.w3.org/RDF/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pecification: http://www.w3.org/TR/REC-rdf-syntax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AQ: http://www.w3.org/RDF/FAQ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utorial: Carl Lagoze et al: WWW7 Tutorial. Available at http://purl.oclc.org/~emiller/talks/www7/tuto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DF-Schema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pecification at http://www.w3.org/TR/rdf-sche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FM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Relational-Functional Markup Language. Homepage at http://www.relfun.org/rfml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mantic Web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vailabe at http://www.SemanticWeb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E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mple HTML Ontology Extensions. Available at http://www.cs.umd.edu/projects/plus/SHO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tensible Markup Language (XML), Version 1.0. W3C Recommendation. Available at http://www.w3.org/TR/1998/REC-xml-199802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"/>
          <p:cNvSpPr txBox="1"/>
          <p:nvPr/>
        </p:nvSpPr>
        <p:spPr>
          <a:xfrm rot="5400000">
            <a:off x="-1578600" y="3683520"/>
            <a:ext cx="3995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fer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668-C49A-4393-AD3D-F76A281961F4}" type="slidenum">
              <a:t>1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E3C4F-D31D-4DB0-AF50-F2A9BAB2B3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904680" y="160776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 Namespaces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spaces in XML. W3C Recommendation at http://www.w3.org/TR/REC-xml-names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-Q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-QL: A Query Language for XML. Available at http://www.w3.org/TR/NOTE-xml-ql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-RPC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 Remote Procedure Calls. Available at http://www.xmlrpc.com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Path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orld Wide Web Consortium. XML Path Language. W3C Recommendation. Available at http://www.w3.org/TR/xpa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Pointer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orld Wide Web Consortium. XML Pointer Language (XPointer). W3C Working Draft. Available at http://www.w3.org/TR/xpt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Q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ML Query Language (XQL). Available at http://www.w3.org/TandS/QL/QL98/pp/xql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SL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orld Wide Web Consortium. Extensible Stylesheet Language (XSL). W3C Working Draft. Available at http://www.w3.org/TR/WD-xs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SLT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orld Wide Web Consortium. XSL Transformations (XSLT). W3C Recommendation. Available at http://www.w3.org/TR/xsl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5" name=""/>
          <p:cNvSpPr txBox="1"/>
          <p:nvPr/>
        </p:nvSpPr>
        <p:spPr>
          <a:xfrm rot="5400000">
            <a:off x="-1578600" y="3683520"/>
            <a:ext cx="3995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efer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11E-1416-418D-A4E0-1E5487CFD671}" type="slidenum">
              <a:t>1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09C5C-7AC6-4500-A430-52F856723A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il-Box Example: Address Variant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932400" y="39607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ode-Labeled, (Left-to-Right-)Ordered Element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377680" y="1884240"/>
            <a:ext cx="3377880" cy="2044080"/>
            <a:chOff x="5377680" y="1884240"/>
            <a:chExt cx="3377880" cy="2044080"/>
          </a:xfrm>
        </p:grpSpPr>
        <p:sp>
          <p:nvSpPr>
            <p:cNvPr id="371" name=""/>
            <p:cNvSpPr/>
            <p:nvPr/>
          </p:nvSpPr>
          <p:spPr>
            <a:xfrm>
              <a:off x="5753880" y="2309760"/>
              <a:ext cx="3001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(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Xaver M. Linde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box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2001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,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(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"10555 Berlin"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77680" y="188424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Prolog Term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29880" y="1881360"/>
            <a:ext cx="4128480" cy="2043720"/>
            <a:chOff x="929880" y="1881360"/>
            <a:chExt cx="4128480" cy="2043720"/>
          </a:xfrm>
        </p:grpSpPr>
        <p:sp>
          <p:nvSpPr>
            <p:cNvPr id="374" name=""/>
            <p:cNvSpPr/>
            <p:nvPr/>
          </p:nvSpPr>
          <p:spPr>
            <a:xfrm>
              <a:off x="1304280" y="2306520"/>
              <a:ext cx="375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box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2001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box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9880" y="188136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479600" y="4627440"/>
            <a:ext cx="6288480" cy="1838880"/>
            <a:chOff x="1479600" y="4627440"/>
            <a:chExt cx="6288480" cy="1838880"/>
          </a:xfrm>
        </p:grpSpPr>
        <p:sp>
          <p:nvSpPr>
            <p:cNvPr id="377" name=""/>
            <p:cNvSpPr/>
            <p:nvPr/>
          </p:nvSpPr>
          <p:spPr>
            <a:xfrm>
              <a:off x="4082760" y="46274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306160" y="5019840"/>
              <a:ext cx="2133720" cy="4777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1360" y="5019840"/>
              <a:ext cx="0" cy="527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64240" y="4998960"/>
              <a:ext cx="2112840" cy="487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79600" y="605808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5920" y="6067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47800" y="60580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19600" y="54514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25760" y="54608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bo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34440" y="54514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t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03680" y="578160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17680" y="5802480"/>
              <a:ext cx="1800" cy="293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91200" y="5780160"/>
              <a:ext cx="1800" cy="2937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3BF-007B-46CE-A0D7-9428AF2FDD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138EC-B6D0-4589-ADB7-CCA31D5389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"|"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sjoined Street/Mail-Box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ocument Type Definition and Tre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984240" y="410364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74880" y="2354400"/>
            <a:ext cx="59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|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x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07280" y="16984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Definition (DT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3560" y="4637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87680" y="5029200"/>
            <a:ext cx="2133360" cy="477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384360" y="5035680"/>
            <a:ext cx="577800" cy="51732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45040" y="5008680"/>
            <a:ext cx="2112840" cy="487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720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05120" y="6075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5880" y="60580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00760" y="5460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65680" y="546876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5240" y="5460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44760" y="57992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98480" y="58118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578952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92400" y="5019840"/>
            <a:ext cx="628920" cy="53640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35320" y="60879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95880" y="5481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75320" y="581184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649320" y="5359320"/>
            <a:ext cx="677880" cy="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21400" y="36640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99040" y="3129120"/>
            <a:ext cx="314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"|": Cho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he above box address and the original stre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ddress are valid w.r.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his "|"-DT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BCC-36BA-4019-B343-8BCBEC42DF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3F700-F050-4EBA-9BFA-890C19AE9F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one &amp; Fax Example: Address Varia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964080" y="43750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ode-Labeled, (Left-to-Right-)Ordered Element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46040" y="1925640"/>
            <a:ext cx="3001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(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Xaver M. Linde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Wikingerufer 7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10555 Berlin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030/1234567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030/1234568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030/1234569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69840" y="1500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olog Ter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70920" y="1487520"/>
            <a:ext cx="4128480" cy="2958840"/>
            <a:chOff x="970920" y="1487520"/>
            <a:chExt cx="4128480" cy="2958840"/>
          </a:xfrm>
        </p:grpSpPr>
        <p:sp>
          <p:nvSpPr>
            <p:cNvPr id="421" name=""/>
            <p:cNvSpPr/>
            <p:nvPr/>
          </p:nvSpPr>
          <p:spPr>
            <a:xfrm>
              <a:off x="1345320" y="1913040"/>
              <a:ext cx="37540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phon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030/123456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phon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phon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030/1234568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phon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fax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030/1234569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fax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0920" y="148752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133520" y="47480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940040" y="5099040"/>
            <a:ext cx="2317680" cy="560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137040" y="5119560"/>
            <a:ext cx="1239840" cy="527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9080" y="5129280"/>
            <a:ext cx="39600" cy="487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8640" y="61372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95360" y="61372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73880" y="6137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67200" y="5543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19720" y="55720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78800" y="55292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98800" y="5923080"/>
            <a:ext cx="1440" cy="293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65280" y="58942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35560" y="5899320"/>
            <a:ext cx="1440" cy="293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19560" y="6137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030/123456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54760" y="6137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030/1234569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30680" y="6137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030/1234568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48200" y="5067360"/>
            <a:ext cx="3452760" cy="509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65680" y="5108400"/>
            <a:ext cx="2101680" cy="498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0560" y="5108400"/>
            <a:ext cx="955440" cy="487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68680" y="555300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17880" y="554976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83880" y="55483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62520" y="5881680"/>
            <a:ext cx="180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43760" y="58816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45600" y="58816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8F1-AC14-4FD2-A862-2746ADB0B9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F425A-AA80-4818-AA05-EE95B82F36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70400" y="2398680"/>
            <a:ext cx="5589360" cy="3630600"/>
          </a:xfrm>
          <a:custGeom>
            <a:avLst/>
            <a:gdLst/>
            <a:ahLst/>
            <a:rect l="l" t="t" r="r" b="b"/>
            <a:pathLst>
              <a:path w="3521" h="2287">
                <a:moveTo>
                  <a:pt x="30" y="183"/>
                </a:moveTo>
                <a:cubicBezTo>
                  <a:pt x="75" y="161"/>
                  <a:pt x="113" y="78"/>
                  <a:pt x="158" y="56"/>
                </a:cubicBezTo>
                <a:cubicBezTo>
                  <a:pt x="175" y="48"/>
                  <a:pt x="197" y="46"/>
                  <a:pt x="214" y="42"/>
                </a:cubicBezTo>
                <a:cubicBezTo>
                  <a:pt x="287" y="24"/>
                  <a:pt x="351" y="8"/>
                  <a:pt x="426" y="0"/>
                </a:cubicBezTo>
                <a:cubicBezTo>
                  <a:pt x="495" y="4"/>
                  <a:pt x="535" y="1"/>
                  <a:pt x="595" y="14"/>
                </a:cubicBezTo>
                <a:cubicBezTo>
                  <a:pt x="614" y="18"/>
                  <a:pt x="652" y="28"/>
                  <a:pt x="652" y="28"/>
                </a:cubicBezTo>
                <a:cubicBezTo>
                  <a:pt x="688" y="46"/>
                  <a:pt x="726" y="65"/>
                  <a:pt x="765" y="77"/>
                </a:cubicBezTo>
                <a:cubicBezTo>
                  <a:pt x="800" y="101"/>
                  <a:pt x="837" y="128"/>
                  <a:pt x="878" y="141"/>
                </a:cubicBezTo>
                <a:cubicBezTo>
                  <a:pt x="893" y="151"/>
                  <a:pt x="905" y="166"/>
                  <a:pt x="920" y="176"/>
                </a:cubicBezTo>
                <a:cubicBezTo>
                  <a:pt x="927" y="181"/>
                  <a:pt x="964" y="188"/>
                  <a:pt x="969" y="190"/>
                </a:cubicBezTo>
                <a:cubicBezTo>
                  <a:pt x="1062" y="224"/>
                  <a:pt x="1153" y="234"/>
                  <a:pt x="1252" y="240"/>
                </a:cubicBezTo>
                <a:cubicBezTo>
                  <a:pt x="1291" y="248"/>
                  <a:pt x="1321" y="263"/>
                  <a:pt x="1358" y="275"/>
                </a:cubicBezTo>
                <a:cubicBezTo>
                  <a:pt x="1378" y="302"/>
                  <a:pt x="1403" y="324"/>
                  <a:pt x="1421" y="353"/>
                </a:cubicBezTo>
                <a:cubicBezTo>
                  <a:pt x="1440" y="385"/>
                  <a:pt x="1449" y="420"/>
                  <a:pt x="1470" y="451"/>
                </a:cubicBezTo>
                <a:cubicBezTo>
                  <a:pt x="1491" y="526"/>
                  <a:pt x="1500" y="607"/>
                  <a:pt x="1513" y="684"/>
                </a:cubicBezTo>
                <a:cubicBezTo>
                  <a:pt x="1523" y="746"/>
                  <a:pt x="1544" y="806"/>
                  <a:pt x="1555" y="868"/>
                </a:cubicBezTo>
                <a:cubicBezTo>
                  <a:pt x="1563" y="910"/>
                  <a:pt x="1554" y="969"/>
                  <a:pt x="1583" y="1002"/>
                </a:cubicBezTo>
                <a:cubicBezTo>
                  <a:pt x="1591" y="1011"/>
                  <a:pt x="1603" y="1015"/>
                  <a:pt x="1612" y="1023"/>
                </a:cubicBezTo>
                <a:cubicBezTo>
                  <a:pt x="1622" y="1032"/>
                  <a:pt x="1658" y="1073"/>
                  <a:pt x="1675" y="1080"/>
                </a:cubicBezTo>
                <a:cubicBezTo>
                  <a:pt x="1705" y="1093"/>
                  <a:pt x="1763" y="1103"/>
                  <a:pt x="1795" y="1108"/>
                </a:cubicBezTo>
                <a:cubicBezTo>
                  <a:pt x="1864" y="1085"/>
                  <a:pt x="1940" y="1080"/>
                  <a:pt x="2007" y="1051"/>
                </a:cubicBezTo>
                <a:cubicBezTo>
                  <a:pt x="2017" y="1047"/>
                  <a:pt x="2026" y="1042"/>
                  <a:pt x="2035" y="1037"/>
                </a:cubicBezTo>
                <a:cubicBezTo>
                  <a:pt x="2042" y="1033"/>
                  <a:pt x="2048" y="1026"/>
                  <a:pt x="2056" y="1023"/>
                </a:cubicBezTo>
                <a:cubicBezTo>
                  <a:pt x="2098" y="1004"/>
                  <a:pt x="2141" y="990"/>
                  <a:pt x="2183" y="974"/>
                </a:cubicBezTo>
                <a:cubicBezTo>
                  <a:pt x="2229" y="957"/>
                  <a:pt x="2263" y="848"/>
                  <a:pt x="2310" y="833"/>
                </a:cubicBezTo>
                <a:cubicBezTo>
                  <a:pt x="2394" y="777"/>
                  <a:pt x="2537" y="792"/>
                  <a:pt x="2635" y="776"/>
                </a:cubicBezTo>
                <a:cubicBezTo>
                  <a:pt x="2708" y="752"/>
                  <a:pt x="2770" y="780"/>
                  <a:pt x="2847" y="776"/>
                </a:cubicBezTo>
                <a:cubicBezTo>
                  <a:pt x="3018" y="755"/>
                  <a:pt x="3170" y="754"/>
                  <a:pt x="3341" y="762"/>
                </a:cubicBezTo>
                <a:cubicBezTo>
                  <a:pt x="3415" y="780"/>
                  <a:pt x="3426" y="800"/>
                  <a:pt x="3475" y="861"/>
                </a:cubicBezTo>
                <a:cubicBezTo>
                  <a:pt x="3486" y="894"/>
                  <a:pt x="3479" y="948"/>
                  <a:pt x="3489" y="981"/>
                </a:cubicBezTo>
                <a:cubicBezTo>
                  <a:pt x="3500" y="1077"/>
                  <a:pt x="3521" y="1182"/>
                  <a:pt x="3461" y="1263"/>
                </a:cubicBezTo>
                <a:cubicBezTo>
                  <a:pt x="3446" y="1323"/>
                  <a:pt x="3395" y="1336"/>
                  <a:pt x="3355" y="1376"/>
                </a:cubicBezTo>
                <a:cubicBezTo>
                  <a:pt x="3346" y="1385"/>
                  <a:pt x="3317" y="1390"/>
                  <a:pt x="3306" y="1397"/>
                </a:cubicBezTo>
                <a:cubicBezTo>
                  <a:pt x="3288" y="1409"/>
                  <a:pt x="3249" y="1425"/>
                  <a:pt x="3249" y="1425"/>
                </a:cubicBezTo>
                <a:cubicBezTo>
                  <a:pt x="3231" y="1449"/>
                  <a:pt x="3207" y="1470"/>
                  <a:pt x="3193" y="1496"/>
                </a:cubicBezTo>
                <a:cubicBezTo>
                  <a:pt x="3156" y="1565"/>
                  <a:pt x="3182" y="1537"/>
                  <a:pt x="3150" y="1567"/>
                </a:cubicBezTo>
                <a:cubicBezTo>
                  <a:pt x="3098" y="1670"/>
                  <a:pt x="2991" y="1679"/>
                  <a:pt x="2889" y="1687"/>
                </a:cubicBezTo>
                <a:cubicBezTo>
                  <a:pt x="2810" y="1713"/>
                  <a:pt x="2848" y="1705"/>
                  <a:pt x="2776" y="1715"/>
                </a:cubicBezTo>
                <a:cubicBezTo>
                  <a:pt x="2755" y="1722"/>
                  <a:pt x="2734" y="1729"/>
                  <a:pt x="2713" y="1736"/>
                </a:cubicBezTo>
                <a:cubicBezTo>
                  <a:pt x="2699" y="1741"/>
                  <a:pt x="2670" y="1750"/>
                  <a:pt x="2670" y="1750"/>
                </a:cubicBezTo>
                <a:cubicBezTo>
                  <a:pt x="2616" y="1786"/>
                  <a:pt x="2548" y="1787"/>
                  <a:pt x="2487" y="1807"/>
                </a:cubicBezTo>
                <a:cubicBezTo>
                  <a:pt x="2467" y="1822"/>
                  <a:pt x="2441" y="1831"/>
                  <a:pt x="2423" y="1849"/>
                </a:cubicBezTo>
                <a:cubicBezTo>
                  <a:pt x="2408" y="1864"/>
                  <a:pt x="2393" y="1900"/>
                  <a:pt x="2374" y="1920"/>
                </a:cubicBezTo>
                <a:cubicBezTo>
                  <a:pt x="2364" y="1960"/>
                  <a:pt x="2337" y="1989"/>
                  <a:pt x="2318" y="2025"/>
                </a:cubicBezTo>
                <a:cubicBezTo>
                  <a:pt x="2298" y="2065"/>
                  <a:pt x="2286" y="2099"/>
                  <a:pt x="2254" y="2131"/>
                </a:cubicBezTo>
                <a:cubicBezTo>
                  <a:pt x="2204" y="2234"/>
                  <a:pt x="2134" y="2266"/>
                  <a:pt x="2028" y="2287"/>
                </a:cubicBezTo>
                <a:cubicBezTo>
                  <a:pt x="1909" y="2282"/>
                  <a:pt x="1842" y="2274"/>
                  <a:pt x="1732" y="2265"/>
                </a:cubicBezTo>
                <a:cubicBezTo>
                  <a:pt x="1644" y="2237"/>
                  <a:pt x="1555" y="2218"/>
                  <a:pt x="1463" y="2209"/>
                </a:cubicBezTo>
                <a:cubicBezTo>
                  <a:pt x="1427" y="2191"/>
                  <a:pt x="1389" y="2184"/>
                  <a:pt x="1350" y="2174"/>
                </a:cubicBezTo>
                <a:cubicBezTo>
                  <a:pt x="1341" y="2172"/>
                  <a:pt x="1331" y="2169"/>
                  <a:pt x="1322" y="2167"/>
                </a:cubicBezTo>
                <a:cubicBezTo>
                  <a:pt x="1313" y="2165"/>
                  <a:pt x="1294" y="2160"/>
                  <a:pt x="1294" y="2160"/>
                </a:cubicBezTo>
                <a:cubicBezTo>
                  <a:pt x="1262" y="2137"/>
                  <a:pt x="1225" y="2129"/>
                  <a:pt x="1188" y="2117"/>
                </a:cubicBezTo>
                <a:cubicBezTo>
                  <a:pt x="1156" y="2106"/>
                  <a:pt x="1127" y="2083"/>
                  <a:pt x="1096" y="2068"/>
                </a:cubicBezTo>
                <a:cubicBezTo>
                  <a:pt x="1064" y="2019"/>
                  <a:pt x="1084" y="2030"/>
                  <a:pt x="1047" y="2018"/>
                </a:cubicBezTo>
                <a:cubicBezTo>
                  <a:pt x="1002" y="1958"/>
                  <a:pt x="933" y="1918"/>
                  <a:pt x="870" y="1877"/>
                </a:cubicBezTo>
                <a:cubicBezTo>
                  <a:pt x="859" y="1870"/>
                  <a:pt x="854" y="1854"/>
                  <a:pt x="842" y="1849"/>
                </a:cubicBezTo>
                <a:cubicBezTo>
                  <a:pt x="801" y="1831"/>
                  <a:pt x="730" y="1826"/>
                  <a:pt x="687" y="1814"/>
                </a:cubicBezTo>
                <a:cubicBezTo>
                  <a:pt x="597" y="1789"/>
                  <a:pt x="509" y="1752"/>
                  <a:pt x="419" y="1729"/>
                </a:cubicBezTo>
                <a:cubicBezTo>
                  <a:pt x="360" y="1688"/>
                  <a:pt x="387" y="1703"/>
                  <a:pt x="341" y="1680"/>
                </a:cubicBezTo>
                <a:cubicBezTo>
                  <a:pt x="325" y="1663"/>
                  <a:pt x="308" y="1647"/>
                  <a:pt x="292" y="1630"/>
                </a:cubicBezTo>
                <a:cubicBezTo>
                  <a:pt x="276" y="1614"/>
                  <a:pt x="256" y="1574"/>
                  <a:pt x="256" y="1574"/>
                </a:cubicBezTo>
                <a:cubicBezTo>
                  <a:pt x="248" y="1543"/>
                  <a:pt x="232" y="1526"/>
                  <a:pt x="221" y="1496"/>
                </a:cubicBezTo>
                <a:cubicBezTo>
                  <a:pt x="208" y="1460"/>
                  <a:pt x="208" y="1420"/>
                  <a:pt x="200" y="1383"/>
                </a:cubicBezTo>
                <a:cubicBezTo>
                  <a:pt x="192" y="1345"/>
                  <a:pt x="193" y="1256"/>
                  <a:pt x="193" y="1256"/>
                </a:cubicBezTo>
                <a:cubicBezTo>
                  <a:pt x="185" y="1177"/>
                  <a:pt x="193" y="1157"/>
                  <a:pt x="172" y="1073"/>
                </a:cubicBezTo>
                <a:cubicBezTo>
                  <a:pt x="152" y="1031"/>
                  <a:pt x="135" y="913"/>
                  <a:pt x="122" y="868"/>
                </a:cubicBezTo>
                <a:cubicBezTo>
                  <a:pt x="116" y="817"/>
                  <a:pt x="50" y="793"/>
                  <a:pt x="45" y="741"/>
                </a:cubicBezTo>
                <a:cubicBezTo>
                  <a:pt x="26" y="669"/>
                  <a:pt x="10" y="528"/>
                  <a:pt x="2" y="430"/>
                </a:cubicBezTo>
                <a:cubicBezTo>
                  <a:pt x="0" y="337"/>
                  <a:pt x="31" y="240"/>
                  <a:pt x="30" y="18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view and Tutorial Mindma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88680"/>
            <a:ext cx="27590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reasing demand for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malized knowledg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n  the Web: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I’s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hance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ML-based markup languages provide a 'universal'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orag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terchang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format for such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b-distributed knowledge represent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utorial introduces key techniques for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knowledge markup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we show how to marry AI representations (e.g., logics and frames) and XML (incl. RDF and RDF Schem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0360" y="2152800"/>
            <a:ext cx="73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TD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3080" y="3425760"/>
            <a:ext cx="9687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78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1840" y="4551480"/>
            <a:ext cx="1145520" cy="459720"/>
          </a:xfrm>
          <a:prstGeom prst="rect">
            <a:avLst/>
          </a:prstGeom>
          <a:gradFill rotWithShape="0">
            <a:gsLst>
              <a:gs pos="0">
                <a:srgbClr val="f3fef3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DF[S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0840" y="1763640"/>
            <a:ext cx="1325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amespac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4160" y="2604960"/>
            <a:ext cx="121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tyleshe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3440" y="2065320"/>
            <a:ext cx="5418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S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4120" y="2392200"/>
            <a:ext cx="6865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SL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26440" y="3683160"/>
            <a:ext cx="5968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Q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9720" y="3733920"/>
            <a:ext cx="892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Queri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61040" y="4165560"/>
            <a:ext cx="966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ML-Q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72920" y="3073320"/>
            <a:ext cx="169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ransformatio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48240" y="2568600"/>
            <a:ext cx="663480" cy="8589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471720" y="2994120"/>
            <a:ext cx="9720" cy="4064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781680" y="2297160"/>
            <a:ext cx="503280" cy="307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1280" y="3959280"/>
            <a:ext cx="0" cy="5652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9240" y="2130480"/>
            <a:ext cx="414360" cy="1295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96680" y="4599000"/>
            <a:ext cx="124920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cquisi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34080" y="3949560"/>
            <a:ext cx="873360" cy="676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0720" y="5581800"/>
            <a:ext cx="801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rotégé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4480" y="2894040"/>
            <a:ext cx="8283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3800" y="4589640"/>
            <a:ext cx="854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ram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3880" y="3675240"/>
            <a:ext cx="70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Ru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0080" y="5256360"/>
            <a:ext cx="59688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X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46400" y="4295880"/>
            <a:ext cx="7095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HO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6120" y="3444840"/>
            <a:ext cx="9014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Horn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6120" y="3816360"/>
            <a:ext cx="7322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FM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2800" y="4916520"/>
            <a:ext cx="1440" cy="344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8000" y="2997360"/>
            <a:ext cx="111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ntobrok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50480" y="2603520"/>
            <a:ext cx="867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RO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73600" y="3675240"/>
            <a:ext cx="257040" cy="134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672080" y="3900600"/>
            <a:ext cx="358560" cy="33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84400" y="4079880"/>
            <a:ext cx="235080" cy="23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773600" y="4516200"/>
            <a:ext cx="146160" cy="122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579640" y="3282480"/>
            <a:ext cx="414360" cy="303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989840" y="2744640"/>
            <a:ext cx="246240" cy="292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205760" y="2589120"/>
            <a:ext cx="717480" cy="223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92320" y="3743280"/>
            <a:ext cx="314280" cy="77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400720" y="3933720"/>
            <a:ext cx="706320" cy="627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5960" y="5041800"/>
            <a:ext cx="0" cy="52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48400" y="4941720"/>
            <a:ext cx="549360" cy="649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605120" y="2801880"/>
            <a:ext cx="168120" cy="20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38240" y="3114720"/>
            <a:ext cx="157320" cy="123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24520" y="3216240"/>
            <a:ext cx="235080" cy="20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3832200"/>
            <a:ext cx="303120" cy="5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43960" y="4124160"/>
            <a:ext cx="201600" cy="20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81840" y="3832200"/>
            <a:ext cx="122400" cy="66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2760" y="4762440"/>
            <a:ext cx="1238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0360" y="2297160"/>
            <a:ext cx="582480" cy="268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779880" y="4997520"/>
            <a:ext cx="716040" cy="547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C34-C00C-49D1-889F-8F4B59F08F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38918-66E4-4E4D-AB5E-CCC9CDD775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4535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"+"/"*"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petitive-Phone &amp; -Fax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ocument Type Definition and Tre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0" name=""/>
          <p:cNvSpPr/>
          <p:nvPr/>
        </p:nvSpPr>
        <p:spPr>
          <a:xfrm>
            <a:off x="826920" y="41544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0280" y="2149560"/>
            <a:ext cx="664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phon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+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*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5920" y="161460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Definition (DT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3560" y="4637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687320" y="4997520"/>
            <a:ext cx="1981080" cy="509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282480" y="5008680"/>
            <a:ext cx="427320" cy="547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78200" y="4998960"/>
            <a:ext cx="946080" cy="547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8720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14400" y="60879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41520" y="60991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00760" y="5460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75320" y="54817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31240" y="55022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54400" y="581184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98480" y="58118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88000" y="583092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43520" y="5027760"/>
            <a:ext cx="2224080" cy="5284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06880" y="60786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5520" y="548172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53360" y="5810400"/>
            <a:ext cx="144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38720" y="4978440"/>
            <a:ext cx="3524040" cy="547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80000" y="60786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69720" y="5481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26480" y="5810400"/>
            <a:ext cx="144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22960" y="2695680"/>
            <a:ext cx="382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"+"/"*": One/Zero or More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he above two-phone/one-fax address is valid w.r.t. this "+"/"*"-DTD but the original no-phone/no-fax address is not 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1 phone!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637-5BCC-4AF8-AFA2-B703CFC384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584A9-A501-4A15-979E-4C3D5D68E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ntry Example: Address Varia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932400" y="40924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ode-Labeled, (Left-to-Right-)Ordered Element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74760" y="2106720"/>
            <a:ext cx="300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(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Xaver M. Linde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Wikingerufer 7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10555 Berlin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ntry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"Germany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50400" y="1677960"/>
            <a:ext cx="4128480" cy="2348640"/>
            <a:chOff x="950400" y="1677960"/>
            <a:chExt cx="4128480" cy="2348640"/>
          </a:xfrm>
        </p:grpSpPr>
        <p:sp>
          <p:nvSpPr>
            <p:cNvPr id="480" name=""/>
            <p:cNvSpPr/>
            <p:nvPr/>
          </p:nvSpPr>
          <p:spPr>
            <a:xfrm>
              <a:off x="1324800" y="2103120"/>
              <a:ext cx="37540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name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Xaver M. Linde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name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Wikingerufer 7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street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town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10555 Berlin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town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country&gt;</a:t>
              </a: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Germany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country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&lt;/address&gt;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50400" y="167796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XML Markup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4082760" y="46274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103480" y="5010120"/>
            <a:ext cx="2124000" cy="507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033440" y="4998960"/>
            <a:ext cx="366840" cy="577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44880" y="4987800"/>
            <a:ext cx="2976840" cy="619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54160" y="605808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39720" y="60991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16200" y="611964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94160" y="5451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37440" y="54928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02840" y="5513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6520" y="582300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92240" y="5802480"/>
            <a:ext cx="1800" cy="293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59600" y="5842080"/>
            <a:ext cx="1440" cy="293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08080" y="611964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erman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06360" y="554364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nt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64560" y="5872320"/>
            <a:ext cx="1440" cy="2934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60840" y="4997520"/>
            <a:ext cx="1563840" cy="581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7360" y="1662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olog Ter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55B-CE4C-48A8-89E7-FE412F609E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F9E92-0730-4C7B-B4D0-734A69B87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"?"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ptional-Country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ocument Type Definition and Tre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927000" y="410364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Tre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05040" y="2260440"/>
            <a:ext cx="619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ntry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?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!ELEMEN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ntr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#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46800" y="167652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ocument Type Definition (DT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63560" y="46371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687680" y="5008680"/>
            <a:ext cx="1992240" cy="4982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616200" y="5018040"/>
            <a:ext cx="152640" cy="557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90880" y="5008680"/>
            <a:ext cx="1787760" cy="519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8720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98520" y="6086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76800" y="60786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00760" y="5460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9440" y="5479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66160" y="54817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38520" y="5810400"/>
            <a:ext cx="144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98480" y="5811840"/>
            <a:ext cx="180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2920" y="5810400"/>
            <a:ext cx="1440" cy="29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4987800"/>
            <a:ext cx="3524400" cy="50976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26280" y="6048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PC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50760" y="54514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count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72400" y="5780160"/>
            <a:ext cx="1440" cy="2937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99040" y="2754360"/>
            <a:ext cx="31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"?": One or Z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he above country address and the original countri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ddress are valid w.r.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his "?"-DT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8F2-CC51-490F-8007-378CECED47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54450-1197-4CAA-A58A-C457FD0363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ntry Address: A Complete XML Document Referring to an External DT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1363320" y="2092320"/>
            <a:ext cx="704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?xml version="1.0" standalone="no"?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DOCTYPE address SYSTEM "country-address.dtd"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ame&gt;Xaver M. Linde&lt;/nam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street&gt;Wikingerufer 7&lt;/street&gt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town&gt;10555 Berlin&lt;/tow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country&gt;Germany&lt;/country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87480" y="1606680"/>
            <a:ext cx="63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Document (just ASCII, e.g. stored in a file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87560" y="5103720"/>
            <a:ext cx="8056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XML declaratio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uses standalone attribute with "no" value: DTD imp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DOCument TYPE declaratio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names th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root elemen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ddress and, after th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SYSTEM keyword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refers to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external DTD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"country-address.dtd"      (or, at some absolute URL, to an "http://www.test.org/country-address.dtd"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952-725E-4880-96CE-9C75959873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EB6D5-D931-41D0-A408-153E1C286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Logic Markup Langu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 rot="4200">
            <a:off x="2822400" y="307008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E8-4822-4687-903D-05501E9B665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E2A24-38F6-4AB9-8443-112015EB8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erbrand Terms: Individual Constants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ariables, Flat Ground Structures, ..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63640" y="2352600"/>
            <a:ext cx="8089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Individual constan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for channel-tunnel between Britain and France:   element 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ind&gt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annel-tunnel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/ind&gt;</a:t>
            </a:r>
            <a:br>
              <a:rPr sz="2200"/>
            </a:b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Ground structure </a:t>
            </a:r>
            <a:br>
              <a:rPr sz="2200"/>
            </a:br>
            <a:br>
              <a:rPr sz="22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ea-connection(britain,france)</a:t>
            </a:r>
            <a:br>
              <a:rPr sz="2000"/>
            </a:b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s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struc&gt;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lement with embedded element for constructor, followed by elements for argument terms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4" name=""/>
          <p:cNvSpPr/>
          <p:nvPr/>
        </p:nvSpPr>
        <p:spPr>
          <a:xfrm>
            <a:off x="1076400" y="1523880"/>
            <a:ext cx="73105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presentation of Herbrand terms in XML a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ind&gt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a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struc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lements (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&lt;var&gt;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imilar)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81960" y="4978440"/>
            <a:ext cx="6459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truc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struc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dersea-connectio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struc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ritai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truc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53D-B55F-4F93-910B-DD7E13FCE7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973BE-E281-4DE1-8198-8042E88534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erbrand Terms: ...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ested Ground Structur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771120" y="2852640"/>
            <a:ext cx="307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rvice-tunnel(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dersea-connection(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ritain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rrounded-country(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lgium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xembourg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ermany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witzerland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aly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pain)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77320" y="1627200"/>
            <a:ext cx="5583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structo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rvice-tunnel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structo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structo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undersea-connectio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structo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rita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structo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urrounded-countr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structo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lgium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uxembourg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erman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witzerlan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tal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pa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uc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1480" y="1768320"/>
            <a:ext cx="30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mbedded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&lt;struc&g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lement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358-7CBF-43CE-9A1E-27C202A725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E6B17-3642-4CB6-AF0F-214C7989DE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rim Discussion: Tag and Typ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63640" y="1843200"/>
            <a:ext cx="808992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Prolog not clear, in isolation, that channel-tunnel is individual constant, whereas service-tunnel is constructo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XML, as in strongly typed LP languages, made explicit - however at every occurrence of a symbo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ample gives impression of self-description advantage - but also  ‘space requirement’ - of this generous application of “syntactic sugar”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B85-2160-4412-9ECE-CCEF69F439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1E5A4-DE36-4359-B878-1C1EDC8F25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Clauses: Relation Symbol Applica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927000" y="1641600"/>
            <a:ext cx="7934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dicate or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relation symbo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XML is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elem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example, relation symbol travel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Relation symbol application to term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s labeled wi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elem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 travel(john,channel-tunnel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n two individual constants thus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625-486F-496A-9841-7C7D0BB080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FFC61-3837-437F-9B37-99A3C26B9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Clauses: Fa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927000" y="1641600"/>
            <a:ext cx="723744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nce, Horn fact can be asserted 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element that possesse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elements as sub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the example, the Prolog fa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(john,channel-tunnel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co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CDA-3B9E-483E-A887-1974C1029E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4857E-114E-4F04-B01D-5EF693BECC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tensible Markup Languag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4200">
            <a:off x="2822400" y="307008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48E-815D-4A4B-9072-11F8627D1F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50753-B377-49E8-AA49-FB15B7B2AB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Clauses: Ru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927000" y="1641600"/>
            <a:ext cx="755496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n, Horn rule is asserted as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Elem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hat has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a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element followed by at least o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od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el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, above example generalized to Prolog ru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(Someone,channel-tunnel) :- carry(eurostar,Someon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78480" y="32796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writte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DA3-FA5C-4C46-9FAA-C8BC22A7D7F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D309F-FD2E-49EA-BC68-E5D7AB350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ttributes for Extended Log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918720" y="1623960"/>
            <a:ext cx="750060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sted elements - trees - allow representation o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bitrary information, but in some situations le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unnecessarily deeply/widely nested represen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refore XML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rt-Tag is ‘attributed’ with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ttribute-value pairs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lement: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ag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...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. . .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ag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pful Prolog uses of XML attributes are arity labelings o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lation symbols such as our binary relation symbol travel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log’s travel/2 in XML with an arity attribute beco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rity="2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alogously, annotations become possible on arbitra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lement levels: mode declarations for logic variable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terminism specifications for clauses or procedure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context conditions for entire knowledge b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36B-62F6-4D8E-8E82-3ADE4C882B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E3380-BDC1-47FE-A243-E1F3E7C1B9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ID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nd IDRE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927000" y="1565280"/>
            <a:ext cx="679788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ttribute types ID and IDREF for naming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erencing of 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-typed value must uniquely identify an el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IDREF-typed value must occur as ID value o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el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, clause can be named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in a separate knowledge base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d="john-cha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215-D9E3-4E28-81E9-FB6CC339537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6F6DB-B385-4372-AB9C-ACAEB19DDB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27000" y="1565280"/>
            <a:ext cx="693756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w a “modal Prolog fact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lief(mary,travel(john,channel-tunnel)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n access the "john-channel" asser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lie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pr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dref="john-cha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positional argument of the belief operator written 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pr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dref="john-cha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XML abbreviation of empty element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ag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ag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tag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..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so disbelief fact has "john-channel" access with idref: ID/IDREF “break out of the tree” and enable ‘sharing’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D and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IDREF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4152960" y="1636560"/>
            <a:ext cx="2887560" cy="2287800"/>
          </a:xfrm>
          <a:custGeom>
            <a:avLst/>
            <a:gdLst/>
            <a:ahLst/>
            <a:rect l="l" t="t" r="r" b="b"/>
            <a:pathLst>
              <a:path w="1627" h="1441">
                <a:moveTo>
                  <a:pt x="152" y="225"/>
                </a:moveTo>
                <a:cubicBezTo>
                  <a:pt x="262" y="178"/>
                  <a:pt x="373" y="132"/>
                  <a:pt x="536" y="97"/>
                </a:cubicBezTo>
                <a:cubicBezTo>
                  <a:pt x="699" y="62"/>
                  <a:pt x="959" y="0"/>
                  <a:pt x="1128" y="17"/>
                </a:cubicBezTo>
                <a:cubicBezTo>
                  <a:pt x="1297" y="34"/>
                  <a:pt x="1477" y="102"/>
                  <a:pt x="1552" y="201"/>
                </a:cubicBezTo>
                <a:cubicBezTo>
                  <a:pt x="1627" y="300"/>
                  <a:pt x="1612" y="493"/>
                  <a:pt x="1576" y="609"/>
                </a:cubicBezTo>
                <a:cubicBezTo>
                  <a:pt x="1540" y="725"/>
                  <a:pt x="1436" y="809"/>
                  <a:pt x="1336" y="897"/>
                </a:cubicBezTo>
                <a:cubicBezTo>
                  <a:pt x="1236" y="985"/>
                  <a:pt x="1199" y="1046"/>
                  <a:pt x="976" y="1137"/>
                </a:cubicBezTo>
                <a:cubicBezTo>
                  <a:pt x="753" y="1228"/>
                  <a:pt x="163" y="1394"/>
                  <a:pt x="0" y="1441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943440" y="3905280"/>
            <a:ext cx="279360" cy="63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248-13F9-473B-8620-0445D9CA6AD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C1C88-8335-4B05-A6EC-53A93D8BA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939960" y="1654200"/>
            <a:ext cx="73436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p to now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s for Horn Logic in XML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w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eneral language defin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ML's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Document type definitions (DTDs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itially only as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ELEMENT declaratio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n-attributed 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or nonterminals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TD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inary context-free grammar in modified (EBNF) no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or terminals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Usually arbitrary permutations of the base alphabet ("PCDATA'') instead of fixed terminal seq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TD grammar derives context-free word patter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rivation trees themselves - linearized through brackets - as generated resul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ML element is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vali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ith respect to DT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n be generated from DTD as linearized derivation tre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TDs: Elements as Derivation Tre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72C-3907-48AE-9838-DD08CA6904F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8D516-DE00-471C-8FF4-198213491D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38920" y="5019840"/>
            <a:ext cx="2133720" cy="272880"/>
          </a:xfrm>
          <a:prstGeom prst="rect">
            <a:avLst/>
          </a:prstGeom>
          <a:solidFill>
            <a:srgbClr val="c0e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27000" y="1552680"/>
            <a:ext cx="7623360" cy="49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yntactic ELEMENT declaration of Horn logic as a knowledge base (kb) of zero or more Horn clauses (hn*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kb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hn*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h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elationship, relationship*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relationshi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elator, (ind | var | struc)*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struc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structor, (ind | var | struc)*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relato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#PCDATA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constructo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#PCDATA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i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#PCDATA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va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#PCDATA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TDs: Defining Horn Logic in X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2" name=""/>
          <p:cNvSpPr/>
          <p:nvPr/>
        </p:nvSpPr>
        <p:spPr>
          <a:xfrm>
            <a:off x="6762600" y="48960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truc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recursion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7569360" y="4449600"/>
            <a:ext cx="150480" cy="570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E6A-90D6-40C8-9642-2C7D345AB6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8CD6-FCA3-4E1B-99C7-1758EE18C6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27000" y="1552680"/>
            <a:ext cx="911880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Start-)symbol kb brackets derived clause(s) as linear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rt-tag/end-tag-tree representation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kb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. . .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kb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k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kb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hn*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kb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.    .    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kb&gt; &lt;hn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relationship relationship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hn&gt; &lt;/kb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.    .    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kb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relator&gt; &lt;var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var&gt; &lt;ind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relator&gt; &lt;ind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ind&gt; &lt;var&gt;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PCDATA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&lt;/kb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TD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neration of the Example Rule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FD0-8700-49FA-AF6F-F14EBEED445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CA353-17C7-4CC6-9626-FFE3136909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01800" y="1704960"/>
            <a:ext cx="911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TD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neration of the Example Rule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D4A-A719-46EC-BA5C-225C7CB56A9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1E5B3-6730-44BC-9456-7A496DBE9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901800" y="1781280"/>
            <a:ext cx="82422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TDs fo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ttributed elemen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TTLIST declaratio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 which associate element name with an attribute name plus attribute type and possible occurrence ind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st Example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eclare the relator attribute arity as CDATA-typed (cf. #PCDATA) and occurring optionally (#IMPLIED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ATTLIST relator arity  CDATA  #IMPLIED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nd Example (Preparation)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efine the extended Horn logic with (named hn clauses and) embedded proposi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relationshi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elator, (ind|var|struc|prop)*)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ELEMENT prop EMPTY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ttribute DTDs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FF4-A19F-4EE3-BCEA-9C749D48E6D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7F0AF-E7CF-49C3-885B-C38CDA92A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901800" y="1781280"/>
            <a:ext cx="8242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nd Example (Execution)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ppend an ATTLIST declaration that specifies, for the hn respectively prop elements, the attribut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 - as optional ID type - respective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ref - as mandatory IDREF typ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ATTLIST h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#IMPLIED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!ATTLIST pr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RE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#REQUIRED 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th entire DTD now, e.g., earlier "john-channel"-named fact and its accessing facts can be genera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ttribute DTDs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E01-4125-433C-912D-D1A2B05D850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B9635-E00A-4FEE-8972-90ED84DBF6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neral Advantages of XML for K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1216080" y="2962440"/>
            <a:ext cx="738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finition of self-describing data in worldwide standardized, non-proprietary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tructured data and knowledge exchange for enterprises in various industr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egration of information from different sources (into uniform document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90520" y="1755720"/>
            <a:ext cx="694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 offers new general possibilities, from whi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I knowledge representation (KR) can profi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48D-A4AF-4F26-AEF6-6BF18A5FF0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B65DA-FB2C-41AE-8869-55E40855B4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2960" y="1506600"/>
            <a:ext cx="74898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ssume fac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(eurostar,fred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Horn-logic interpreter can use it to answer this quer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(eurostar,Someon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y bin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Queries in XML Not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15A-EA68-46AA-BBAA-DEF1E6F8CB0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B8BF2-C287-454B-80DA-E9C42E8153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65320" y="6140520"/>
            <a:ext cx="58719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85680" y="1927080"/>
            <a:ext cx="3351240" cy="15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54160" y="4202280"/>
            <a:ext cx="3585960" cy="170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22320" y="1638360"/>
            <a:ext cx="748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ssume the fact is extended by prem(ises)/arity/pos(ition) attribut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hn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m='0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relationship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ity='2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os='1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os='2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n in XML-QL the query can be implemented like thi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hn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m='0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relationship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ity='2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os='1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os='2'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omeon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STRU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nding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omeone&gt;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$someon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omeon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Queries in XML-QL Implementation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398-C6D5-4BC9-91BD-C1A2C9F2899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20D84-F251-4A6A-91C9-801662C3D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922320" y="1811160"/>
            <a:ext cx="7683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th carry basis fa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(eurostar,fred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rule is usable to dynamically derive travel assertions as needed, without having to store them all-inclusively and staticall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(Someone,channel-tunnel) :-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(eurostar,Someon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at is, its earlier XML version is useable by a Horn-logic interpreter for inferential queries lik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(fred,Where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carry(eurostar,Someone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 in XML Notation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8" name=""/>
          <p:cNvSpPr/>
          <p:nvPr/>
        </p:nvSpPr>
        <p:spPr>
          <a:xfrm>
            <a:off x="2803680" y="5510160"/>
            <a:ext cx="2082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Someone=fre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here=channel-tu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81720" y="5549760"/>
            <a:ext cx="2082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here=channel-tu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ADE-B050-4D5A-9484-48AF42F18FC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16DBD-AE17-4034-970F-93C39C8B39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933480" y="1546200"/>
            <a:ext cx="3792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Ru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 in XML Notation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3" name=""/>
          <p:cNvSpPr/>
          <p:nvPr/>
        </p:nvSpPr>
        <p:spPr>
          <a:xfrm>
            <a:off x="1008720" y="4870440"/>
            <a:ext cx="3477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4480" y="4913280"/>
            <a:ext cx="71028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="fred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="channel-tu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39960" y="4853160"/>
            <a:ext cx="7375320" cy="16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="channel-tu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76800" y="1546200"/>
            <a:ext cx="246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act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1760" y="40845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-Step Anima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80E-014D-48FA-A204-DB37CB8A813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11D25-77AD-4146-8D0E-64A3DC4F25BC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933480" y="1546200"/>
            <a:ext cx="3792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Ru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 in XML Notation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1" name=""/>
          <p:cNvSpPr/>
          <p:nvPr/>
        </p:nvSpPr>
        <p:spPr>
          <a:xfrm>
            <a:off x="1008720" y="4870440"/>
            <a:ext cx="3477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76800" y="1546200"/>
            <a:ext cx="246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act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61760" y="40845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-Step Anima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BA1-CA58-4053-B970-5068898853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A2C17-15D8-4D67-9C6F-0F7C6108E0DE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33480" y="1546200"/>
            <a:ext cx="3792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Ru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 in XML Notation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7" name=""/>
          <p:cNvSpPr/>
          <p:nvPr/>
        </p:nvSpPr>
        <p:spPr>
          <a:xfrm>
            <a:off x="5176800" y="1546200"/>
            <a:ext cx="246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act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61760" y="40845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-Step Anima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14480" y="4913280"/>
            <a:ext cx="7102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ionship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="fred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="channel-tu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D50-9A66-4E32-94EF-A20C93C1659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177A2-93D4-45F9-AA78-ADD0BF0D6D1B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33480" y="1546200"/>
            <a:ext cx="3792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Ru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v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meone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 in XML Notation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3" name=""/>
          <p:cNvSpPr/>
          <p:nvPr/>
        </p:nvSpPr>
        <p:spPr>
          <a:xfrm>
            <a:off x="5176800" y="1546200"/>
            <a:ext cx="246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act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relator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rry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or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ind&gt;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relationship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61760" y="4084560"/>
            <a:ext cx="33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-Step Anima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39960" y="4853160"/>
            <a:ext cx="73753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ind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ere="channel-tunnel"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ind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B93-C084-492D-AEB8-654E9EE3261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681A7-8029-4666-A9AB-C4E38FE1A86C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08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rn Inferences: SLD-Resolution,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QL Implementation, Open Worl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orn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8" name=""/>
          <p:cNvSpPr/>
          <p:nvPr/>
        </p:nvSpPr>
        <p:spPr>
          <a:xfrm>
            <a:off x="869040" y="1914480"/>
            <a:ext cx="790128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 inference is carried out as an SLD-resolution st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rocedural semantics of SLD-resolution can be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XML-QL implementation seems possible as for quer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distribution of the clauses over different documents in th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b is assumed, in this “open world” logical completenes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particular, can hardly still be asked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7F-CF83-4902-909D-BBC3942F740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236E5-022E-4F55-8DE7-91A99AA2D3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Markup Languag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CD1-F9AE-4BDB-B083-2ED6030DC5B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5A9C5-DF94-40D4-832A-3D5637520A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3430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10-Step Strategy to Publish and Reuse Declarative Programs as XML Marku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39243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pecify the declarative programming languag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through an XML document type definition (DTD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nver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y to-be-published declarative program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rom its source syntax to an XML documen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ccording to the DT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Upload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such an XML document to a Web server for public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so offer the declarative programs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erver-side querying (e.g. CGI)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d advertise their XML-document version to search engines etc., ideally using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metadata markup (e.g. RDF/XML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stribut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these documents to requesting clients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via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tandard Web protocols (e.g. HTT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f necessary,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ransform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such an XML document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 declarative target language with a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fferent DTD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, possibly using an (XSLT) styleshee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ownload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any requested XML document at the client sit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nver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this XML document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the client's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arge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syntax, possibly using (XSLT + CSS) styleshee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Query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arget version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via the client's program interpreter and optionally download the server’s source-program interpreter (once) for client-side querying, ultimately as a browser plug-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eus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the target version, say in existing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415560" y="2162160"/>
            <a:ext cx="1003680" cy="489960"/>
          </a:xfrm>
          <a:prstGeom prst="rect">
            <a:avLst/>
          </a:prstGeom>
          <a:solidFill>
            <a:srgbClr val="f58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Distribut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(transform)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76240" y="5757840"/>
            <a:ext cx="628920" cy="291960"/>
          </a:xfrm>
          <a:prstGeom prst="rect">
            <a:avLst/>
          </a:prstGeom>
          <a:solidFill>
            <a:srgbClr val="92c9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Query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251920" y="5748480"/>
            <a:ext cx="601200" cy="291960"/>
          </a:xfrm>
          <a:prstGeom prst="rect">
            <a:avLst/>
          </a:prstGeom>
          <a:solidFill>
            <a:srgbClr val="92c9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Reuse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181840" y="1790640"/>
            <a:ext cx="1349280" cy="3264840"/>
            <a:chOff x="5181840" y="1790640"/>
            <a:chExt cx="1349280" cy="3264840"/>
          </a:xfrm>
        </p:grpSpPr>
        <p:sp>
          <p:nvSpPr>
            <p:cNvPr id="638" name=""/>
            <p:cNvSpPr/>
            <p:nvPr/>
          </p:nvSpPr>
          <p:spPr>
            <a:xfrm>
              <a:off x="5225760" y="4684680"/>
              <a:ext cx="1305360" cy="370800"/>
            </a:xfrm>
            <a:prstGeom prst="rect">
              <a:avLst/>
            </a:prstGeom>
            <a:solidFill>
              <a:srgbClr val="9ae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Program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Sourc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3240" y="2601720"/>
              <a:ext cx="1000800" cy="370800"/>
            </a:xfrm>
            <a:prstGeom prst="rect">
              <a:avLst/>
            </a:prstGeom>
            <a:solidFill>
              <a:srgbClr val="9ae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XML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Sourc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43040" y="3552480"/>
              <a:ext cx="692640" cy="291960"/>
            </a:xfrm>
            <a:prstGeom prst="rect">
              <a:avLst/>
            </a:prstGeom>
            <a:solidFill>
              <a:srgbClr val="9ae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</a:rPr>
                <a:t>Upload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55640" y="4062240"/>
              <a:ext cx="756720" cy="291960"/>
            </a:xfrm>
            <a:prstGeom prst="rect">
              <a:avLst/>
            </a:prstGeom>
            <a:solidFill>
              <a:srgbClr val="9ae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</a:rPr>
                <a:t>Convert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81840" y="1790640"/>
              <a:ext cx="986760" cy="398880"/>
            </a:xfrm>
            <a:prstGeom prst="rect">
              <a:avLst/>
            </a:prstGeom>
            <a:solidFill>
              <a:srgbClr val="9ae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Server: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552080" y="1790640"/>
            <a:ext cx="1328400" cy="3264840"/>
            <a:chOff x="7552080" y="1790640"/>
            <a:chExt cx="1328400" cy="3264840"/>
          </a:xfrm>
        </p:grpSpPr>
        <p:sp>
          <p:nvSpPr>
            <p:cNvPr id="644" name=""/>
            <p:cNvSpPr/>
            <p:nvPr/>
          </p:nvSpPr>
          <p:spPr>
            <a:xfrm>
              <a:off x="7552080" y="4684680"/>
              <a:ext cx="1299240" cy="370800"/>
            </a:xfrm>
            <a:prstGeom prst="rect">
              <a:avLst/>
            </a:prstGeom>
            <a:solidFill>
              <a:srgbClr val="92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Program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Targe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70160" y="2601720"/>
              <a:ext cx="994680" cy="370800"/>
            </a:xfrm>
            <a:prstGeom prst="rect">
              <a:avLst/>
            </a:prstGeom>
            <a:solidFill>
              <a:srgbClr val="92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XML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Targe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86600" y="3530520"/>
              <a:ext cx="893880" cy="291960"/>
            </a:xfrm>
            <a:prstGeom prst="rect">
              <a:avLst/>
            </a:prstGeom>
            <a:solidFill>
              <a:srgbClr val="92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</a:rPr>
                <a:t>Download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85880" y="4039920"/>
              <a:ext cx="756720" cy="291960"/>
            </a:xfrm>
            <a:prstGeom prst="rect">
              <a:avLst/>
            </a:prstGeom>
            <a:solidFill>
              <a:srgbClr val="92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Times New Roman"/>
                </a:rPr>
                <a:t>Convert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39200" y="1790640"/>
              <a:ext cx="930600" cy="398880"/>
            </a:xfrm>
            <a:prstGeom prst="rect">
              <a:avLst/>
            </a:prstGeom>
            <a:solidFill>
              <a:srgbClr val="92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Client: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V="1">
            <a:off x="6205680" y="3026880"/>
            <a:ext cx="1440" cy="1535400"/>
          </a:xfrm>
          <a:prstGeom prst="line">
            <a:avLst/>
          </a:prstGeom>
          <a:ln w="57240">
            <a:solidFill>
              <a:srgbClr val="9ae3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19840" y="3048120"/>
            <a:ext cx="1800" cy="1535040"/>
          </a:xfrm>
          <a:prstGeom prst="line">
            <a:avLst/>
          </a:prstGeom>
          <a:ln w="57240">
            <a:solidFill>
              <a:srgbClr val="92c9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31040" y="2805120"/>
            <a:ext cx="1036440" cy="0"/>
          </a:xfrm>
          <a:prstGeom prst="line">
            <a:avLst/>
          </a:prstGeom>
          <a:ln w="57240">
            <a:solidFill>
              <a:srgbClr val="f584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7532640" y="5087880"/>
            <a:ext cx="262080" cy="631800"/>
          </a:xfrm>
          <a:prstGeom prst="line">
            <a:avLst/>
          </a:prstGeom>
          <a:ln w="38160">
            <a:solidFill>
              <a:srgbClr val="92c9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77120" y="5087880"/>
            <a:ext cx="262080" cy="631800"/>
          </a:xfrm>
          <a:prstGeom prst="line">
            <a:avLst/>
          </a:prstGeom>
          <a:ln w="38160">
            <a:solidFill>
              <a:srgbClr val="92c9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79960" y="6253200"/>
            <a:ext cx="40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Note: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Program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Times New Roman"/>
              </a:rPr>
              <a:t>Source</a:t>
            </a:r>
            <a:r>
              <a:rPr b="1" lang="en-US" sz="16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ay be identical to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Program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Times New Roman"/>
              </a:rPr>
              <a:t>Targe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D48-6F5E-48F1-95C8-7ECD66C162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17144-A780-4FE3-A1C3-A2516BA7FB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pecific Advantages of XML for K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216080" y="1590840"/>
            <a:ext cx="767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 provides the most suitable infrastructure for knowledge bases on the Web (incl. for W3C languages such as RDF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special KR uses of XML a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6080" y="3584520"/>
            <a:ext cx="7067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form storage of knowledge b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change of knowledge bases between different AI langu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between knowledge bases and databases, application system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6080" y="5730840"/>
            <a:ext cx="78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n transformation/compilation of AI source programs using XML markup and annotations is poss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9ED-952C-4319-8C93-D414D573D5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76792-CCC4-49F1-BED5-C5598EC30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oss-Fertilizations of XML and Declarative Programming Langu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2340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Separate vs. joint assertion and query language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XML: Still separate schema and query of eleme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77960" indent="-271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DPL: Mostly joint storage and retrieval of claus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Generating XML markup from more compact special-purpose notations (and vice versa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XML validators and DPL compile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XML stylesheets and DPL transforme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Specification, correctness, and efficiency technolog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Early case study with the declarativ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language RFML (Relational-Functional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Markup Languag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74C-D406-47DC-B7D5-A6AEE07D43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BA520-71CD-4C92-ADD6-08D61518BCFC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sics of the Relational-Functional Markup Language RF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Much of Web knowledge constitutes definitions of relations and func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Kernel of Relational-Functional language suited for XML knowledge markup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Uniform, rather small languag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Sufficient expressive power for practical us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RFML is an XML application for integrated relational-functional inform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Relational (hn) and functional (ft) clauses together define a unified notion of operato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RFML DTD small and open to various exten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122-BB0B-4721-AB6C-162D4959A5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4F272-E716-4237-B2D2-6197B1574D22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 Facts: From Tables to Prolog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4" name=""/>
          <p:cNvSpPr/>
          <p:nvPr/>
        </p:nvSpPr>
        <p:spPr>
          <a:xfrm>
            <a:off x="1126800" y="22384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ional Tab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6000" y="2835360"/>
            <a:ext cx="59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ustomer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em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t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6.4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26800" y="446076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log (Ground) Fact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66760" y="5057640"/>
            <a:ext cx="607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ustomer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em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ne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ter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er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6.4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70000" y="3263760"/>
            <a:ext cx="59691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3632040"/>
            <a:ext cx="5969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70000" y="3987720"/>
            <a:ext cx="5969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20760" y="5486400"/>
            <a:ext cx="59691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65640" y="2971800"/>
            <a:ext cx="0" cy="1003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0600" y="2990880"/>
            <a:ext cx="0" cy="1003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9760" y="3003480"/>
            <a:ext cx="0" cy="1003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38880" y="2997360"/>
            <a:ext cx="0" cy="1003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91040" y="162864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Collect data on consumer behavior i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1D5-6B90-4096-9B60-9F6F1B8D351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F79CE-3BE1-4FD0-AD68-C85C7B102CFD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 Facts: From Prolog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o RF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9" name=""/>
          <p:cNvSpPr/>
          <p:nvPr/>
        </p:nvSpPr>
        <p:spPr>
          <a:xfrm>
            <a:off x="1128600" y="29494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FML (Ground)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2000" y="16542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log (Ground) Fact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92400" y="216216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john,wine,17.95)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peter,beer,6.40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4680" y="3432240"/>
            <a:ext cx="727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&lt;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pattop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&lt;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te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n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e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6.40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pattop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&lt;/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&lt;/h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BF1-2D0E-491D-92FC-DE4F9152CF4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0E0E0-DA57-418E-9887-90ECF68EFAA1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 Rules: From Prolog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o RF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1142280" y="336852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FML (Non-Ground)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0480" y="223848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log (Non-Ground) Ru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16080" y="2733840"/>
            <a:ext cx="792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C,I,P) :- buy(week1,C,I,P), buy(week2,C,I,P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07680" y="162864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Infer data on consumer behavior via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2880" y="3819600"/>
            <a:ext cx="91850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h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att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atisfie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att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u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ek1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u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ek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h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FB2-ADF2-4151-A118-BC235539BB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CEADC-5696-47EB-9C9D-7491FAA2DD9F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tional Fact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om Unconditional Equation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o RF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1192320" y="313200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FML (Ground)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179000" y="21240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nconditional (Ground) Equa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16080" y="2556000"/>
            <a:ext cx="792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(john,fred,17.95) = cheque         pay(peter,fred,6.40) = ca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07680" y="162864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Discriminate on payment method via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04920" y="3568680"/>
            <a:ext cx="348444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ft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equ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ft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59560" y="3568680"/>
            <a:ext cx="348444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ft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ter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6.40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patt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sh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ft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4D9-DE54-46AB-8C71-084DB8C8F3C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9748F-D380-4539-853E-1E81A2601201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tional Querie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oint Assertion and Query Language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41560" y="1693800"/>
            <a:ext cx="76194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pay function can be queried (non-groun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rectly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via a callop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rchant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inding the two variables to the corresponding consta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the definition pattern and returning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me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directly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s the right side of a conditional equatio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3BE-241C-40F4-BFB1-B823AF0A58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392FE-B39E-4C38-93FD-B98787242890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tional Rule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om Conditional Equation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o Relfu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3" name=""/>
          <p:cNvSpPr/>
          <p:nvPr/>
        </p:nvSpPr>
        <p:spPr>
          <a:xfrm>
            <a:off x="1179720" y="231444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ditional (Non-Ground) Equ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6080" y="2784600"/>
            <a:ext cx="792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quire(Customer,Merchant,Item,Price) 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(Customer,Merchant,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f    satisfied(Customer,Item,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504800" y="1666800"/>
            <a:ext cx="59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edict consumers’ acquisition behavior via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79360" y="427032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fun (Non-Ground) Footed Ru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6080" y="4816440"/>
            <a:ext cx="79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quire(Customer,Merchant,Item,Price) :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tisfied(Customer,Item,Price) &amp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y(Customer,Merchant,Pric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6B3-9534-4B93-AD89-783C3D4DB2B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5950A-53B2-49DA-B70B-4CA895AF8E9D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tional Rule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om Relfu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o RF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0" name=""/>
          <p:cNvSpPr/>
          <p:nvPr/>
        </p:nvSpPr>
        <p:spPr>
          <a:xfrm>
            <a:off x="1320120" y="279720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FML (Non-Ground)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25480" y="3297240"/>
            <a:ext cx="85885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ft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att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quir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att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atisfie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y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on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&lt;var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19440"/>
                <a:tab algn="l" pos="7238880"/>
                <a:tab algn="l" pos="1085868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ft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19040" y="159084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fun (Non-Ground) Footed Ru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68360" y="2048040"/>
            <a:ext cx="79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09760"/>
                <a:tab algn="l" pos="2819520"/>
                <a:tab algn="l" pos="4229280"/>
                <a:tab algn="l" pos="5638680"/>
                <a:tab algn="l" pos="7048440"/>
                <a:tab algn="l" pos="8458200"/>
                <a:tab algn="l" pos="98679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quire(C,M,I,P) :- satisfied(C,I,P) &amp; pay(C,M,P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9DC-BA05-43A3-9699-A94BCF0B2A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C886B-7401-4C94-B0E2-C8F01F5FE900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Computation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“What Items John Buys, and How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45880" y="1693800"/>
            <a:ext cx="7352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query of the acquire function now leads to the follo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FML computation (4-step animation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7" name=""/>
          <p:cNvSpPr/>
          <p:nvPr/>
        </p:nvSpPr>
        <p:spPr>
          <a:xfrm>
            <a:off x="1327320" y="2548080"/>
            <a:ext cx="29635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qui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87720" y="5326200"/>
            <a:ext cx="6124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binds the variable 'item' to the constant 'win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FML bindings represented as XML attribut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turns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88800" y="2606760"/>
            <a:ext cx="6446520" cy="2288520"/>
            <a:chOff x="1288800" y="2606760"/>
            <a:chExt cx="6446520" cy="2288520"/>
          </a:xfrm>
        </p:grpSpPr>
        <p:sp>
          <p:nvSpPr>
            <p:cNvPr id="720" name=""/>
            <p:cNvSpPr/>
            <p:nvPr/>
          </p:nvSpPr>
          <p:spPr>
            <a:xfrm>
              <a:off x="4985280" y="2879640"/>
              <a:ext cx="2750040" cy="195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a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fr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88800" y="2606760"/>
              <a:ext cx="3083760" cy="22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satisfi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var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var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29360" y="3486240"/>
              <a:ext cx="535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&amp;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317600" y="2622600"/>
            <a:ext cx="6519240" cy="2654280"/>
            <a:chOff x="1317600" y="2622600"/>
            <a:chExt cx="6519240" cy="2654280"/>
          </a:xfrm>
        </p:grpSpPr>
        <p:sp>
          <p:nvSpPr>
            <p:cNvPr id="724" name=""/>
            <p:cNvSpPr/>
            <p:nvPr/>
          </p:nvSpPr>
          <p:spPr>
            <a:xfrm>
              <a:off x="5010480" y="2895840"/>
              <a:ext cx="2826360" cy="195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a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fr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17600" y="2622600"/>
              <a:ext cx="2994120" cy="26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="wine"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54560" y="3502080"/>
              <a:ext cx="535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&amp;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355760" y="2622600"/>
            <a:ext cx="6391080" cy="2654280"/>
            <a:chOff x="1355760" y="2622600"/>
            <a:chExt cx="6391080" cy="2654280"/>
          </a:xfrm>
        </p:grpSpPr>
        <p:sp>
          <p:nvSpPr>
            <p:cNvPr id="728" name=""/>
            <p:cNvSpPr/>
            <p:nvPr/>
          </p:nvSpPr>
          <p:spPr>
            <a:xfrm>
              <a:off x="5051520" y="2895840"/>
              <a:ext cx="2695320" cy="195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55760" y="2622600"/>
              <a:ext cx="2994120" cy="26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="wine"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heq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92720" y="3502080"/>
              <a:ext cx="409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F79-9A14-451B-AF62-3996786452D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78155-AD35-4F34-B998-1E779FC3579E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External to HTM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3623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49240" y="4419720"/>
            <a:ext cx="408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em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/em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strong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/strong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68000" y="19051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ternal Present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2680" y="38862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HT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1560" y="3013200"/>
            <a:ext cx="282816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HTML tags are sti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esentation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-orien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4800" y="3886200"/>
            <a:ext cx="2778120" cy="7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743200" y="3886200"/>
            <a:ext cx="5867280" cy="1905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668560" y="3886200"/>
            <a:ext cx="3094200" cy="215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E20-8005-4EE1-85EE-770DD0800E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547FF-4FE7-4B7E-A8FD-85919857A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Computation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“What Items John Buys, and How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45880" y="1693800"/>
            <a:ext cx="7352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query of the acquire function now leads to the follo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FML computation (4-step animation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4" name=""/>
          <p:cNvSpPr/>
          <p:nvPr/>
        </p:nvSpPr>
        <p:spPr>
          <a:xfrm>
            <a:off x="1327320" y="2548080"/>
            <a:ext cx="29635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quir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oh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var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va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co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.9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o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callop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87720" y="5326200"/>
            <a:ext cx="6124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binds the variable 'item' to the constant 'win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FML bindings represented as XML attribut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turns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EED-C62F-4F4C-BCDB-17FAE47A4F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A118E-FC20-4AB1-B135-162CCEF32DA4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Computation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“What Items John Buys, and How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145880" y="1693800"/>
            <a:ext cx="7352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query of the acquire function now leads to the follo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FML computation (4-step animation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9" name=""/>
          <p:cNvSpPr/>
          <p:nvPr/>
        </p:nvSpPr>
        <p:spPr>
          <a:xfrm>
            <a:off x="1287720" y="5326200"/>
            <a:ext cx="6124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binds the variable 'item' to the constant 'win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FML bindings represented as XML attribut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turns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288800" y="2606760"/>
            <a:ext cx="6446520" cy="2288520"/>
            <a:chOff x="1288800" y="2606760"/>
            <a:chExt cx="6446520" cy="2288520"/>
          </a:xfrm>
        </p:grpSpPr>
        <p:sp>
          <p:nvSpPr>
            <p:cNvPr id="741" name=""/>
            <p:cNvSpPr/>
            <p:nvPr/>
          </p:nvSpPr>
          <p:spPr>
            <a:xfrm>
              <a:off x="4985280" y="2879640"/>
              <a:ext cx="2750040" cy="19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a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fr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88800" y="2606760"/>
              <a:ext cx="3083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satisfi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var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var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29360" y="348624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&amp;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710-3004-4AAF-AB5F-732D2CD2EB7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A6E15-C10D-422E-A66B-738606100D48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Computation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“What Items John Buys, and How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45880" y="1693800"/>
            <a:ext cx="7352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query of the acquire function now leads to the follo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FML computation (4-step animation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7" name=""/>
          <p:cNvSpPr/>
          <p:nvPr/>
        </p:nvSpPr>
        <p:spPr>
          <a:xfrm>
            <a:off x="1287720" y="5326200"/>
            <a:ext cx="6124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binds the variable 'item' to the constant 'win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FML bindings represented as XML attribut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turns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1317600" y="2622600"/>
            <a:ext cx="6519240" cy="2654280"/>
            <a:chOff x="1317600" y="2622600"/>
            <a:chExt cx="6519240" cy="2654280"/>
          </a:xfrm>
        </p:grpSpPr>
        <p:sp>
          <p:nvSpPr>
            <p:cNvPr id="749" name=""/>
            <p:cNvSpPr/>
            <p:nvPr/>
          </p:nvSpPr>
          <p:spPr>
            <a:xfrm>
              <a:off x="5010480" y="2895840"/>
              <a:ext cx="2826360" cy="19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a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john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fred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&gt;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7.95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allop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17600" y="2622600"/>
              <a:ext cx="2994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="wine"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54560" y="35020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&amp;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506-37EC-4576-8C3B-C63E80E0D41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6A680-5D0E-4AD9-8E24-5C6B68D4D575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onal-Functional Computations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“What Items John Buys, and How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145880" y="1693800"/>
            <a:ext cx="7352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query of the acquire function now leads to the follo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FML computation (4-step animation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5" name=""/>
          <p:cNvSpPr/>
          <p:nvPr/>
        </p:nvSpPr>
        <p:spPr>
          <a:xfrm>
            <a:off x="1287720" y="5326200"/>
            <a:ext cx="6124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binds the variable 'item' to the constant 'win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FML bindings represented as XML attribut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d returns the constant 'cheque'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355760" y="2622600"/>
            <a:ext cx="6391080" cy="2654280"/>
            <a:chOff x="1355760" y="2622600"/>
            <a:chExt cx="6391080" cy="2654280"/>
          </a:xfrm>
        </p:grpSpPr>
        <p:sp>
          <p:nvSpPr>
            <p:cNvPr id="757" name=""/>
            <p:cNvSpPr/>
            <p:nvPr/>
          </p:nvSpPr>
          <p:spPr>
            <a:xfrm>
              <a:off x="5051520" y="2895840"/>
              <a:ext cx="2695320" cy="19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                 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55760" y="2622600"/>
              <a:ext cx="2994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con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tem="wine"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heq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&lt;/con&gt;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92720" y="3502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05C-B8FE-4295-B07C-B072C979361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37472-EBD6-4B36-9BFE-7F3631C141E4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RFML DTD (1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1344240" y="1573200"/>
            <a:ext cx="74044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ENTITIES use non-terminals of Relfun grammar (Boley 1999) 'untagged',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e.g. term ::= con | var | anon | struc | tup, just specifying, say, 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&lt;var&gt; X &lt;/var&gt; term instead of nesting &lt;term&gt; &lt;var&gt; X &lt;/var&gt; &lt;/term&gt;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NTITY % variable      "(var | anon)"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NTITY % appellative   "(con | %variable; | struc)"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NTITY % term          "(%appellative; | tup)"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ELEMENTS use non-terminals of Relfun grammar 'tagged', so var ::= ...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itself becomes &lt;var&gt; X &lt;/var&gt;                                       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rfml is the document root, the possibly empty knowledge-base top-level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of hn or ft clauses:                                                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rfml          (hn | ft)*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hn clauses are a pattop before zero (facts) or more terms or callop's;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ft clauses are a pattop before at least one term or callop (the foot):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hn            (pattop, (%term; | callop)*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ft            (pattop, (%term; | callop)+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a pattop clause head is an operator appellative and a (rest) pattern: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pattop        (%appellative;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%term;)*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rest, (%variable; | tup))?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DB8-7A7A-48C5-AC41-DB6CA67A131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9B16-C550-4B87-9764-952FA72D6F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e RFML DTD (2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5" name=""/>
          <p:cNvSpPr/>
          <p:nvPr/>
        </p:nvSpPr>
        <p:spPr>
          <a:xfrm>
            <a:off x="1306080" y="1674720"/>
            <a:ext cx="7404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a callop clause body premise or foot is a (nested) operator call:   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callop        ((%appellative; | callop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%term; | callop)*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rest, (%variable; | tup | callop))?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a struc is a constructor appellative with argument terms (and a rest):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struc         (%appellative;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%term;)*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rest, (%variable; | tup))?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a tup is a list of terms (zero or more), perhaps followed by a rest: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tup           ((%term;)*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(rest, (%variable; | tup))?)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con and var are just parsed character data (character permutations):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con           (#PCDATA)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var           (#PCDATA)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-- anon (Relfun: "_") and rest (Relfun: "|") are always-empty elements:   --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anon          EMPTY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&lt;!ELEMENT rest          EMPTY 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E5F-3B33-4D20-BEF8-7E5B218ACED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94ECC-CC78-41D3-AC6B-FC55757258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FML Summar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040" y="175392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FML combines relational-functional knowledge-representation and declarative-programming languages on the Web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t has been implemented as a (Web-)output syntax for declarative knowledge bases and computat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FML stylesheets for Prolog, Relfun, and other languages are under develop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urther descriptions, examples, the DTD, and download information are available at 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relfun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org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rfml</a:t>
            </a: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F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7C9-98CD-478F-AFD1-8B03A161E6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89850-43CD-4A90-A442-161415634A4A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mple HTML/XML Ontology Exten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CFA-D161-462B-9217-C1589A6F2E94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71864-1A98-49AA-AA04-F1EEE68B9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HOE Bas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4" name=""/>
          <p:cNvSpPr/>
          <p:nvPr/>
        </p:nvSpPr>
        <p:spPr>
          <a:xfrm>
            <a:off x="1395360" y="1654200"/>
            <a:ext cx="75358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OE (Simple HTML Ontology Extens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http://www.cs.umd.edu/projects/plus/SHOE/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vides distributed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tologi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consisting o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tegories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ganized hierarchically, with multiple inheritance, for classifying insta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ionship rules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Horn clauses (the first well-known Horn language publishing KBs in the Web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OE originally specified in HTML (before the definition of XML); meanwhile also specified as an XML DT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F4C-703A-43AC-A1A3-A9CDBF80FFE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8C823-ADB4-410A-A2F3-0D79F1EDE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stances (Individuals) as URLs/URI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7" name=""/>
          <p:cNvSpPr/>
          <p:nvPr/>
        </p:nvSpPr>
        <p:spPr>
          <a:xfrm>
            <a:off x="1071360" y="1890720"/>
            <a:ext cx="775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ividual constants in SHOE are represented throug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 (official) URL/U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the earlier Horn-rule example there appear two individual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ich could be represented in SHOE, e.g.,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urosta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ttp://www.eurostar.com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annel-tunne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ttp://www.eurotunnel.com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BD1-8943-43F8-B500-DCF5A3AAB0D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744A1-2655-495F-94EF-8276EFCF5D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HTML to X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672920" y="2362320"/>
            <a:ext cx="408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em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/em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strong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/strong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6360" y="190512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HT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030480"/>
            <a:ext cx="3215160" cy="825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ML tags are chosen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representation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nee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72960" y="3886200"/>
            <a:ext cx="507996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911920" y="3886200"/>
            <a:ext cx="2698560" cy="133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952960" y="3886200"/>
            <a:ext cx="2810160" cy="1722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2200" y="4724280"/>
            <a:ext cx="44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6360" y="42670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605560" y="3886200"/>
            <a:ext cx="3386160" cy="213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C4A-5105-4382-BB94-8DC19BEF56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77BC4-022A-4D9C-83EB-C001658A9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SHOE Ru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HO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0" name=""/>
          <p:cNvSpPr/>
          <p:nvPr/>
        </p:nvSpPr>
        <p:spPr>
          <a:xfrm>
            <a:off x="1063080" y="1611360"/>
            <a:ext cx="6729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th these URLs/URIs, the rule in SHOE beco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DEF-INFERE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CRIPTION="travel(?someone,http://www.eurotunnel.com/)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 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arry(http://www.eurostar.com/,?someone)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INF-I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RELATION NAME="carry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ARG POS="1" VALUE="http://www.eurostar.com/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ARG POS="2" VALUE="someone" USAGE="VAR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RELATI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INF-IF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INF-THE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RELATION NAME="travel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ARG POS="1" VALUE="someone" USAGE="VAR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ARG POS="2" VALUE="http://www.eurotunnel.com/"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RELATIO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INF-THEN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DEF-INFERENCE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8CD-8DEF-40BB-8F47-6BEAEE8E222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ABAF9-E14F-402B-A1D4-8CA1ACC630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9640" y="351000"/>
            <a:ext cx="8432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-Based Ontology Exchange Languag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841-5509-46D5-9203-A780C7EFAB06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D49D4-6B70-4B6E-8B24-87589EF0C3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93440" y="343080"/>
            <a:ext cx="8350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OL: XML-based Ontology Exchange Languag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(by Peter Karp, Vinay Chaudhri, Jerome Thomere, SRI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language for specifying ontologi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language for exchanging ontologi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n also be used for exchange of databa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rame-based semantic model: OKBC-Lit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pressive power similar to Ontolingu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ML-based syntax (kernel DTD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E39-126C-4114-843B-AD7606117A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965A9-30A7-4560-B10B-799BDD50EA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sential Form of an XOL Fi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1528560"/>
            <a:ext cx="800100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module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.  .  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class&gt;.....&lt;/class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class&gt;.....&lt;/class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slot&gt;.....&lt;/slot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slot&gt;.....&lt;/slot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individual&gt;.... &lt;/individual&gt;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individual&gt;.... &lt;/individual&gt;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&lt;/module&gt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081-FE7C-4352-9415-B520D05EFA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422D1-F0A4-4A89-8E9C-F82E1D6409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dule-Header Defini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80640" y="2017800"/>
            <a:ext cx="80010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modul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Genes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version&gt;1.2&lt;/versio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documentation&gt;An Ontology for the functional classification of genes&lt;/documentatio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.  .  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modul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45F-BC7E-4403-92AF-E5049C4B09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8E25B-5C38-4EFC-BA38-4C49C3600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ass Defini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42640" y="1779480"/>
            <a:ext cx="80010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clas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Genes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documentation&gt;The class of all Genes.  Each subclass of class Genes describes a specific category of gene function.&lt;/documentatio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clas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clas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GC001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ubclass-of&gt;Genes&lt;/subclass-of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clas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C8E-5CDD-4641-A929-E967ACCB019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84141-B87A-4C9F-AAD6-2EDE7EC6C0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lot Defini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040" y="1589040"/>
            <a:ext cx="80010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lo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common-name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documentation&gt;A string that encodes the official name of the entity.&lt;/documentatio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domain&gt;Genes&lt;/domai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lot-cardinality&gt;1&lt;/slot-cardinality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lot-value-type&gt;string&lt;/slot-value-typ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lo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964-438C-41EC-AFE5-469EB4453F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C60BE-3968-48B9-A21F-D2A40CB7B7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dividual Defini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O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63280" y="1487520"/>
            <a:ext cx="80010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individual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EG10115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documentation&gt;The trpC gene&lt;/documentation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instance-of&gt;GC001&lt;/instance-of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lot-value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name&gt;common-name&lt;/nam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value&gt;trpC&lt;/valu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lot-value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individual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0B9-1F4E-4CB7-B31A-C7FE186CE1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443AF-1E2E-407B-AAA9-2CE3060084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 Namespa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 rot="4200">
            <a:off x="2789280" y="3213000"/>
            <a:ext cx="3733920" cy="157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43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ame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4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9B9-9A05-4579-8C5C-FCB73010CB18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45D9A-95C4-4B55-ACBA-8796551A91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 Namespaces and       Programming-Language Modu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585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ML namespaces are akin to namespaces, packages, and modules in programming languag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ambiguation of tag–and attribute–names from different XML applications (“spaces”) through different prefix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s separated from the local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y a “:”, obtaining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tag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Namespaces constitute a layer on top of XML 1.0, sinc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s again a valid tag name and namespace bindings are ignored by some tool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78-2BE3-43A0-8A97-659A274D91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7637A-685E-4ABB-91B3-6429B1889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56160" y="2631960"/>
            <a:ext cx="1763640" cy="2955960"/>
          </a:xfrm>
          <a:custGeom>
            <a:avLst/>
            <a:gdLst/>
            <a:ahLst/>
            <a:rect l="l" t="t" r="r" b="b"/>
            <a:pathLst>
              <a:path w="1111" h="1862">
                <a:moveTo>
                  <a:pt x="678" y="256"/>
                </a:moveTo>
                <a:cubicBezTo>
                  <a:pt x="894" y="128"/>
                  <a:pt x="1111" y="0"/>
                  <a:pt x="998" y="268"/>
                </a:cubicBezTo>
                <a:cubicBezTo>
                  <a:pt x="885" y="536"/>
                  <a:pt x="167" y="1596"/>
                  <a:pt x="0" y="1862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XML to Externa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1589400" y="2449440"/>
            <a:ext cx="44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3920" y="1992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62120" y="5246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01320" y="478944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ternal Presenta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46080" y="5283360"/>
            <a:ext cx="2017800" cy="792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35480" y="4051440"/>
            <a:ext cx="30290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ML stylesheets are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e.g., usable to gener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ifferent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presen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48760" y="5226120"/>
            <a:ext cx="21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ve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10555 Berl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5520" y="5865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9560" y="5283360"/>
            <a:ext cx="893520" cy="7524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45120" y="5573880"/>
            <a:ext cx="318960" cy="5173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75280" y="3038400"/>
            <a:ext cx="558720" cy="3556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774-AD92-442A-97FC-06C61BFFF2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E06A5-5968-432A-8F86-18A00F56B4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mespace Binding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4916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efixes are bound to namespace URIs by attaching an xmlns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ttribute to the prefixed element or one of its ancestors,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...,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value of the xmlns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ttribute is a URI, which may or (unlike for DTDs!) may not point to a description of the namespace’s syntax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n element can use bindings for multiple name-spaces via attributes xmlns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...,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mlns: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refix</a:t>
            </a:r>
            <a:r>
              <a:rPr b="0" i="1" lang="en-US" sz="2600" spc="-1" strike="noStrike" baseline="-25000">
                <a:solidFill>
                  <a:srgbClr val="003366"/>
                </a:solidFill>
                <a:latin typeface="Arial"/>
              </a:rPr>
              <a:t>m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DBD-B0E4-40AF-A26A-1FC79ADDAC2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4FBF5-895D-4EFF-A6C2-4AC7FABE20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mespaceless Example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Variant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3" name=""/>
          <p:cNvSpPr/>
          <p:nvPr/>
        </p:nvSpPr>
        <p:spPr>
          <a:xfrm>
            <a:off x="1374120" y="2114640"/>
            <a:ext cx="375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hon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hon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fax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fax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bill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bill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59400" y="16095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amespaceless X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96040" y="3284640"/>
            <a:ext cx="2612880" cy="155700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is ambiguous tag (name clash from two XML applicat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555720" y="3544560"/>
            <a:ext cx="2732040" cy="253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86320" y="4376880"/>
            <a:ext cx="2722320" cy="376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43A-CB6B-4C16-B984-D5CBE997E58E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6196B-4038-4C4A-A7E8-3E1631CE25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wo-Namespace Example:                Snail-Mail and Telecoms Address Par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'spa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0" name=""/>
          <p:cNvSpPr/>
          <p:nvPr/>
        </p:nvSpPr>
        <p:spPr>
          <a:xfrm>
            <a:off x="1306440" y="1860480"/>
            <a:ext cx="60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"http://www.deutschepost.de/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"http://www.telekom.de/"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2.5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8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030/1234569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6.2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60120" y="14968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Namespace XML Marku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03320" y="5300640"/>
            <a:ext cx="81406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 root element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as well as the children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use the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mail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prefix, bound to a deutschepost U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hon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ax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bill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hildren us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prefix, bound to a telekom U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96040" y="3498840"/>
            <a:ext cx="2612880" cy="11912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bill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disambiguation through </a:t>
            </a: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mail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ele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prefixes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4583160" y="3595680"/>
            <a:ext cx="1704960" cy="203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378320" y="4376880"/>
            <a:ext cx="1930320" cy="447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286-9918-45EB-B458-0443A3458098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783AB-5C37-4019-B8BA-A25A4EA213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quiring and Processing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nowledge Marku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 rot="4200">
            <a:off x="1862280" y="2414520"/>
            <a:ext cx="5937120" cy="280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cquir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ces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8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&amp;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0A9-83A0-4B6E-8FB1-57411641469D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C7177-CE13-4D01-9F96-9B857E82E6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quiring and Processing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nowledge Marku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quisi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ro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with XML Plug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eb On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ransformation techniques and stylesheet languag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SL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query languag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QL and XPat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ML-Q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 rot="5400000">
            <a:off x="-533520" y="36576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&amp;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CA0-EE9C-4F41-95BF-17D45953BE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A7DE4-F046-4043-81E6-2E97863C14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quiring XML Knowledge Bas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cquisi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4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cquisi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7BC-EFDC-4CCC-A90C-17BF0CAB936A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11582-9CD0-4CEB-837F-B7E5552214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2000 as an XML Edito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98560" y="17571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presents the latest in a series of interactive tools for knowledge-system develop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acilitates construction of knowledge bases in a principled fashion from reusable componen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llows a variety of “plug-ins” to facilitate customization in various dimension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ne plug-in used for XML import/export, i.e.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proposed as an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XML editor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(also as an RDF[S] editor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88F-5561-46B9-AD3E-3366537D8E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FB032-D107-4690-9EC5-5FF29848E9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nowledge-Base Development with Protégé-2000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uild or import a domain ontology (a conceptual model of the application area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ustom-tailor GUI for acquisition of content knowled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licit content knowledge from application special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p domain ontology to appropriate problem solvers for automation of particular tas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port ontology and content knowledge to target format (OKBC, XML, RDF[S], ...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0C3-8CDB-4A74-8B20-36F0BA3EB7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9FA3A-1171-42B0-BCE3-C6DC9A156B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égé as an OKBC-Compliant System (Open Knowledge Base Connectivity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94960" y="174744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OKBC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tandard mechanism for knowledge bases stored as “frames” of classes, slots, facets, instances, ..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opted by several well-known knowledge-representation systems (Ontolingua, LOOM,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rotégé-2000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XOL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llows Protégé-2000 to be used as an ontology- and knowledge-editing system for any OKBC-compliant serv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98D-D042-475E-A406-54D30E926C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F8BE5-2F5B-44CD-A7F1-1800E30660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rcRect l="0" t="0" r="9428" b="0"/>
          <a:stretch/>
        </p:blipFill>
        <p:spPr>
          <a:xfrm>
            <a:off x="3862440" y="4078440"/>
            <a:ext cx="5272200" cy="2419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92000" y="3370320"/>
            <a:ext cx="3049920" cy="164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 Import Strateg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rcRect l="0" t="0" r="18435" b="0"/>
          <a:stretch/>
        </p:blipFill>
        <p:spPr>
          <a:xfrm>
            <a:off x="4286160" y="2709720"/>
            <a:ext cx="4856400" cy="231480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 flipV="1">
            <a:off x="1847880" y="2847960"/>
            <a:ext cx="2438280" cy="52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68320" y="3627360"/>
            <a:ext cx="2941560" cy="87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60760" y="3732120"/>
            <a:ext cx="1211040" cy="3081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2120" y="186696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ag/element names become class names, except “leaves” which become slot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Customer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Name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irstName&gt;Bill&lt;/FirstName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LastName&gt;Buckram&lt;/LastName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/Name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Cardnum&gt;234 ...&lt;/Cardnum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/Customer&gt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961-1E8C-42AD-AD17-DA0F0A6DD7E9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D5091-EB02-4B69-970A-6EDF9A12E5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2040" y="4346640"/>
            <a:ext cx="393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plac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plac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916360"/>
            <a:ext cx="2922480" cy="2143080"/>
          </a:xfrm>
          <a:custGeom>
            <a:avLst/>
            <a:gdLst/>
            <a:ahLst/>
            <a:rect l="l" t="t" r="r" b="b"/>
            <a:pathLst>
              <a:path w="1841" h="1350">
                <a:moveTo>
                  <a:pt x="0" y="0"/>
                </a:moveTo>
                <a:cubicBezTo>
                  <a:pt x="846" y="22"/>
                  <a:pt x="1693" y="44"/>
                  <a:pt x="1767" y="269"/>
                </a:cubicBezTo>
                <a:cubicBezTo>
                  <a:pt x="1841" y="494"/>
                  <a:pt x="1141" y="922"/>
                  <a:pt x="442" y="1350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dress Example: XML to X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-948600" y="3852000"/>
            <a:ext cx="2658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M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1598040" y="2286000"/>
            <a:ext cx="375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name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street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town&gt;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3280" y="18604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Markup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1440" y="39322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XML Markup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60480" y="5057640"/>
            <a:ext cx="535320" cy="324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47680" y="3513240"/>
            <a:ext cx="31568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ML stylesheets 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lso usable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trans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XML represen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663-76AB-420F-B6B5-B32DA3393A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E23BC-AD87-41F8-B627-816C8BF83E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ample (Import)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ook Ord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749160" y="1601640"/>
            <a:ext cx="6363000" cy="48006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6662880" y="1903320"/>
            <a:ext cx="2471760" cy="14209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5357880" y="4071960"/>
            <a:ext cx="3456000" cy="23954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6640560" y="3395520"/>
            <a:ext cx="2471760" cy="14209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 flipV="1">
            <a:off x="1643040" y="2077920"/>
            <a:ext cx="4977000" cy="2779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592280" y="3570120"/>
            <a:ext cx="5037120" cy="14637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1EC-300D-49ED-9DFD-C188A80D9EE6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5C457-708D-49B9-B89A-40AF3C4ED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ML Export Strateg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791640" y="2123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stance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unreferenced instances become top level elements (cyclic references are handled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asses and slots become tag nam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bjects that are referenced more than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nce are shared/reused with id/idref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ntology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s simple </a:t>
            </a:r>
            <a:r>
              <a:rPr b="0" lang="en-US" sz="2200" spc="-1" strike="noStrike" u="sng">
                <a:solidFill>
                  <a:srgbClr val="003366"/>
                </a:solidFill>
                <a:uFillTx/>
                <a:latin typeface="Arial"/>
              </a:rPr>
              <a:t>XML tre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RDF schema, XOL, … (future work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6BD-EA03-44A2-AF47-88E32B4064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571F7-6D32-4CA8-8293-3484343236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ample (Export):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ewspaper Instanc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768240" y="1692360"/>
            <a:ext cx="6042240" cy="455904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4967280" y="2563920"/>
            <a:ext cx="4165560" cy="31780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 flipH="1">
            <a:off x="2617920" y="2751120"/>
            <a:ext cx="2232000" cy="2355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868120" y="4121280"/>
            <a:ext cx="4102200" cy="15541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A1C-32F7-44B7-A995-99EACB7EB41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5EF44-CB8C-469B-BBC9-677D8C3D0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xample: Newspaper Ontology As XML Tre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1795320" y="1666800"/>
            <a:ext cx="5934240" cy="46292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 flipH="1">
            <a:off x="2454120" y="3610080"/>
            <a:ext cx="3602160" cy="1249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59280" y="3166920"/>
            <a:ext cx="741240" cy="22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 rot="5400000">
            <a:off x="-1323720" y="3857400"/>
            <a:ext cx="34858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tég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B2F-CC72-4B49-870B-4B09CF9B3358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F2FC-4FEC-4CC7-8CAB-F3EF4AA71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cessing XM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 rot="4200">
            <a:off x="2487600" y="3230280"/>
            <a:ext cx="4124160" cy="176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7" name=""/>
          <p:cNvSpPr txBox="1"/>
          <p:nvPr/>
        </p:nvSpPr>
        <p:spPr>
          <a:xfrm rot="5400000">
            <a:off x="-1145520" y="3593160"/>
            <a:ext cx="31291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cess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DAC-7161-41F8-BB41-58AFAE2A63B2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5C5F9-5225-40E9-B0AB-2970334005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scading Style Shee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SS is a language for applying styles such as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bold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Arial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o XML eleme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lso works with HTML (supported in most modern browsers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(style sheet for poems)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{ display: block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{ display: block; font-size: 16pt; font-weight: bold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e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{ display: block; margin-bottom: 10px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nz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{ display: block; margin-bottom: 10px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rs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{ display: block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ttached to XML documents with processing instruction: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&lt;?xml-stylesheet type=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ext/cs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href=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"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em.cs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"?&gt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 rot="5400000">
            <a:off x="-1024200" y="3605040"/>
            <a:ext cx="28954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S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339-1D3A-4A0D-9A40-C75526C9B388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0030-419C-4633-A838-961DB34688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SLT (XSL Transformations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040" y="1588680"/>
            <a:ext cx="80010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SL (Extensible Stylesheet Language) = </a:t>
            </a:r>
            <a:br>
              <a:rPr sz="2600"/>
            </a:b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XSL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+ Formatting Objects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XSLT is a rule-based transformation language for XML documents/tre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sult of a transformation usually is again an XML document, but may also be HTML or plain tex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ransformation takes pla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ffline (useful for XML-to-HTML transformation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n server (e.g., with Apache´s Cocoon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 client (browser, preliminary support in Netscape 6 and IE 5.x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AB8-3607-46FE-9729-1EBA1755E89E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44A0-034C-4207-8A64-6826E250BE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SLT Exampl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Inpu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31920" y="1612800"/>
            <a:ext cx="5770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es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&lt;addres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name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aver M. Lind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street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kingerufer 7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town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555 Berlin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address&gt;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address&gt;   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name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 Do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name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street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2 Gary Cooper Stree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street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&lt;town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nwyck City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town&gt;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&lt;/address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&lt;/addresses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58A-9A76-42DE-9847-909E0A4BAE60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A76F1-5CD5-400D-B0D1-EF2B0CEE1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1162080" y="1590840"/>
            <a:ext cx="6315120" cy="493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85920" y="4200480"/>
            <a:ext cx="4238640" cy="188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76200" y="2066760"/>
            <a:ext cx="4248360" cy="201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SLT Exampl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Styleshe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52360" y="1552680"/>
            <a:ext cx="799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xsl:stylesheet xmlns:xsl="http://www.w3.org/1999/XSL/Transform"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&lt;xsl:template match="/"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&lt;html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&lt;head&gt;&lt;title&gt;Addresses&lt;/title&gt;&lt;/head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&lt;xsl:apply-templates/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&lt;/body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&lt;/html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xsl:template match="address"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p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&lt;i&gt;&lt;xsl:value-of select="name"/&gt;&lt;/i&gt;&lt;br/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&lt;xsl:value-of select="street"/&gt;&lt;br/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&lt;b&gt;&lt;xsl:value-of select="town"/&gt;&lt;/b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/p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/xsl:templat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/xsl:stylesheet&gt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96080" y="2676600"/>
            <a:ext cx="2514600" cy="923760"/>
          </a:xfrm>
          <a:prstGeom prst="wedgeRoundRectCallout">
            <a:avLst>
              <a:gd name="adj1" fmla="val -85606"/>
              <a:gd name="adj2" fmla="val -98625"/>
              <a:gd name="adj3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late for document ro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10200" y="4572000"/>
            <a:ext cx="2133720" cy="1285920"/>
          </a:xfrm>
          <a:prstGeom prst="wedgeRoundRectCallout">
            <a:avLst>
              <a:gd name="adj1" fmla="val -80356"/>
              <a:gd name="adj2" fmla="val -53828"/>
              <a:gd name="adj3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late for address el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1A6-BBC1-4C4D-B114-1795CC932D4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68466-717F-4BC4-9403-71F0834C4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3430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SLT Exampl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Outpu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152360" y="1552680"/>
            <a:ext cx="799164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!DOCTYPE HTML PUBLIC "-//W3C//DTD HTML 4.0//EN"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"http://www.w3.org/TR/REC-html40/strict.dtd"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head&gt;&lt;title&gt;Addresses&lt;/title&gt;&lt;/head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body bgcolor="white"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p&gt;&lt;i&gt;Xaver M. Linde&lt;/i&gt;&lt;br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Wikingerufer 7&lt;br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&lt;b&gt;10555 Berlin&lt;/b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/p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p&gt;&lt;i&gt;John Doe&lt;/i&gt;&lt;br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42 Gary Cooper Street&lt;br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&lt;b&gt;Stanwyck City&lt;/b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&lt;/p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&lt;/body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&lt;/html&gt;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The HTML code was produced with 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Apache´s Cocoon in HTML mode, hence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&lt;br/&gt; became &lt;br&gt;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97" name="addresses" descr=""/>
          <p:cNvPicPr/>
          <p:nvPr/>
        </p:nvPicPr>
        <p:blipFill>
          <a:blip r:embed="rId1"/>
          <a:srcRect l="0" t="-729" r="0" b="0"/>
          <a:stretch/>
        </p:blipFill>
        <p:spPr>
          <a:xfrm>
            <a:off x="5734080" y="2322360"/>
            <a:ext cx="2228760" cy="38800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 txBox="1"/>
          <p:nvPr/>
        </p:nvSpPr>
        <p:spPr>
          <a:xfrm rot="5400000">
            <a:off x="-1138320" y="3681360"/>
            <a:ext cx="3114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SL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AI 2000   Tutorial on Knowledge Markup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5DB-0457-4C98-99EC-E8821B2EBB4F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00840-9062-4484-AE43-E9E4A4E390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27:03Z</dcterms:created>
  <dc:creator>Michael Sintek</dc:creator>
  <dc:description/>
  <dc:language>en-US</dc:language>
  <cp:lastModifiedBy>Michael Sintek</cp:lastModifiedBy>
  <cp:lastPrinted>2000-11-06T10:28:24Z</cp:lastPrinted>
  <dcterms:modified xsi:type="dcterms:W3CDTF">2001-08-26T09:56:03Z</dcterms:modified>
  <cp:revision>272</cp:revision>
  <dc:subject/>
  <dc:title>Tutorial on Knowledge Markup Techniq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{sintek,boley}@dfki.uni-kl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